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88047"/>
        <c:axId val="88023748"/>
      </c:barChart>
      <c:catAx>
        <c:axId val="980880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23748"/>
        <c:crosses val="autoZero"/>
        <c:auto val="1"/>
        <c:lblAlgn val="ctr"/>
        <c:lblOffset val="100"/>
        <c:noMultiLvlLbl val="0"/>
      </c:catAx>
      <c:valAx>
        <c:axId val="88023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880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66A3-0B0E-406B-8477-20E3F8B2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F48-137B-4299-BE1B-166C78FF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20A-6174-4649-AAD9-3098380B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A2F-4EA6-437F-A1E4-78F8EB5C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ACF-1A52-4974-88A1-15926F4B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179-B125-4F3F-BE1E-F7BBF190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88B-36C4-4B84-96BC-41718538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1B55-7114-4090-BCF7-451BC143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E1D-E236-4C2A-9067-B9D1D48B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B80-ED2E-46B3-83E8-3C598AB7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7EA-326B-4082-8BF2-2232BB0C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4E17-FF5F-4FD1-ABE4-52ABF6DC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7D9E2-9111-40F7-A941-5FD04F2256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