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33900"/>
        <c:axId val="55936454"/>
      </c:barChart>
      <c:catAx>
        <c:axId val="24933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36454"/>
        <c:crosses val="autoZero"/>
        <c:auto val="1"/>
        <c:lblAlgn val="ctr"/>
        <c:lblOffset val="100"/>
        <c:noMultiLvlLbl val="0"/>
      </c:catAx>
      <c:valAx>
        <c:axId val="55936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33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B30-9A06-4751-9592-9CE43BD4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A5E-C33C-44BA-9E3E-DCC582AA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24E-2746-49DF-931B-13CC4E41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7B6-CDB2-414D-893C-95717FB9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D4C-0E83-46F9-A468-E8461FB4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4D2-4F51-49C9-8E12-6787019E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53C-4EB6-442E-85A5-83851DE7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68E-01C7-40DE-9CF4-7C0B658C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175-CE1A-4CFB-A602-AD5EB358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EFB-C198-4CAB-90AB-13F03974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C80-3BDF-4EF6-A51F-FFD2A756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6AF-A1F2-4A8F-A02F-A3865854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D4CBC-A1A4-40E2-A1E8-0C4068FFA5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