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56378"/>
        <c:axId val="90664415"/>
      </c:barChart>
      <c:catAx>
        <c:axId val="298563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64415"/>
        <c:crosses val="autoZero"/>
        <c:auto val="1"/>
        <c:lblAlgn val="ctr"/>
        <c:lblOffset val="100"/>
        <c:noMultiLvlLbl val="0"/>
      </c:catAx>
      <c:valAx>
        <c:axId val="90664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563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E66-F442-4B1D-954F-94C88E31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8E3-AC9B-4A92-AE44-E16C23CE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AA4-98D6-4AC0-A5FD-39AA5D4E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3AB-686E-47BF-BC27-9719489C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2F09-18A6-40A7-8429-61DB555A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2E9-7940-4955-B357-0B8A699B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C93-D469-4B35-852F-5A3319F0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F795-DB83-47A2-B866-651EABBF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B63-29B3-44B1-8E39-CA7C6E08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634-901B-4C38-9ED5-288FBDD7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83D-89D4-4D00-B702-CF67F563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254-8574-48E6-9B33-E2A3090B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103A9-0BB3-4F81-A975-65A0FF46CC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