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24984"/>
        <c:axId val="87134050"/>
      </c:barChart>
      <c:catAx>
        <c:axId val="94524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34050"/>
        <c:crosses val="autoZero"/>
        <c:auto val="1"/>
        <c:lblAlgn val="ctr"/>
        <c:lblOffset val="100"/>
        <c:noMultiLvlLbl val="0"/>
      </c:catAx>
      <c:valAx>
        <c:axId val="87134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24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E3F-8EDF-4085-8A31-8955F6B7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F00-6AB6-40B6-807C-8774114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4C3-4A76-41F8-B7DA-FD3EC911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9A5-DEF8-45F8-A0B1-8FE9CC66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695-1D17-4A69-8B5A-B3A6F29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46C-A976-4658-A0FB-2D8953E9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0F7-C318-461E-8720-AE6F3552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BD9-A120-4530-8988-E34D9AD0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E6A-8110-42E9-9BA1-78552336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A33-77A0-4612-B0B0-E028F93D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F61-2D97-4224-829B-0F331C1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FE4-6855-4CAB-9248-146E4C0F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6D666-43F4-4940-901F-7C9333E24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