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51606"/>
        <c:axId val="66664763"/>
      </c:barChart>
      <c:catAx>
        <c:axId val="70851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64763"/>
        <c:crosses val="autoZero"/>
        <c:auto val="1"/>
        <c:lblAlgn val="ctr"/>
        <c:lblOffset val="100"/>
        <c:noMultiLvlLbl val="0"/>
      </c:catAx>
      <c:valAx>
        <c:axId val="66664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1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5E2-EC62-4144-9CD6-DC983E1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454-06DA-4E3E-90B3-88BC40B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F24-D1B5-4AF2-B4D4-D0113243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0BE-C924-4A00-AE65-BD030CB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46D-1B00-4F9D-AD63-1160D43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849-D001-497B-92EF-51765FEC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99C-AB69-41B8-A5C0-AFDB6EA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3D5-9F93-4E31-BC66-A64420F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306-BE3A-4F3E-9306-C9B09D49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595-16B3-42A7-8D0D-6EAD4DA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E12-1775-4CD1-BD1B-C64472B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387-CF1E-43EC-B894-7CF3089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315AD-5399-4B18-BDA1-508E23422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