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770450"/>
        <c:axId val="33435260"/>
      </c:barChart>
      <c:catAx>
        <c:axId val="867704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35260"/>
        <c:crosses val="autoZero"/>
        <c:auto val="1"/>
        <c:lblAlgn val="ctr"/>
        <c:lblOffset val="100"/>
        <c:noMultiLvlLbl val="0"/>
      </c:catAx>
      <c:valAx>
        <c:axId val="33435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704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348-AF5F-438C-81BC-7E377BBE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272-5918-4031-8C39-7DB0FD1D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E546-7322-4359-A12B-41BBA714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42D8-9100-4564-A950-2C703B94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F3BA-8275-46C3-8424-AE352BC6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B6C-AB8A-4310-B7C2-7A831B25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B9C-EF7D-445B-9D32-4385A7B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F65-5087-42AF-89B0-6C61B2FD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052-E326-454C-965A-F8D60F71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AF0D-A285-43C7-9D2D-57D16CC1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BDDE-794B-4BBE-A15D-A9730BA1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CA6-92CF-4DDA-A207-019B4FBF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847AD-C1E1-479B-A18C-9D670FB204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