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11069"/>
        <c:axId val="66988676"/>
      </c:barChart>
      <c:catAx>
        <c:axId val="73111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88676"/>
        <c:crosses val="autoZero"/>
        <c:auto val="1"/>
        <c:lblAlgn val="ctr"/>
        <c:lblOffset val="100"/>
        <c:noMultiLvlLbl val="0"/>
      </c:catAx>
      <c:valAx>
        <c:axId val="66988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11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5D1-4461-40E0-9989-8F0316D6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558-4239-48E9-B72F-7D5E57DF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48F-67FB-42C8-AA2C-906EDC3C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560-F083-4C4A-AC3A-BE433535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DA5-4673-488B-91B1-9FB90FD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28B-302B-4A3A-A2E0-EC358B9A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75E-277D-466F-8ADA-43A4AD6E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43B-1E0C-4A1B-8428-E6D56A9C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22F-29E4-4BC4-B687-FBBCC034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52B-EAE2-4821-BA7B-8710B537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307-860D-43A7-A963-9BAAD9B1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145-E7CA-4787-B7D5-3A37D800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683BB-D15E-423B-B942-B7AB7B67E1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