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95974"/>
        <c:axId val="24606262"/>
      </c:barChart>
      <c:catAx>
        <c:axId val="62895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6262"/>
        <c:crosses val="autoZero"/>
        <c:auto val="1"/>
        <c:lblAlgn val="ctr"/>
        <c:lblOffset val="100"/>
        <c:noMultiLvlLbl val="0"/>
      </c:catAx>
      <c:valAx>
        <c:axId val="24606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95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14D-E8A2-40AB-983B-E853C52D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2AA-C172-4248-97C6-9A524AB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DC1-C9A4-43AB-9C5D-AF85D109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A40-C34E-4AD2-8D68-0499F434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12C-02F9-482D-98D0-A9B64610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572-9B77-4C48-863A-2FDDC01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583-81A7-495F-9BE2-11A171B1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561-91B5-442D-9171-40E7D70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FC9-A3D5-4D85-B137-97F37F08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6E5-A78B-4786-B950-2E32809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B07-361B-4DD0-A09B-D5E1B47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B8B-145B-4B8B-A4E3-A21900E9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96EB5-A3BC-4910-93A4-385E72524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