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79379"/>
        <c:axId val="6737697"/>
      </c:barChart>
      <c:catAx>
        <c:axId val="43579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697"/>
        <c:crosses val="autoZero"/>
        <c:auto val="1"/>
        <c:lblAlgn val="ctr"/>
        <c:lblOffset val="100"/>
        <c:noMultiLvlLbl val="0"/>
      </c:catAx>
      <c:valAx>
        <c:axId val="6737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79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B45-FDC2-4680-AAFB-026CB767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3C1-6449-41D9-B495-7EF1053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88E-09D9-4C53-8241-93B06698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9B2-6812-41CD-BAC6-6707ED0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84B-E9F9-4736-9A55-225D209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EC4-5182-4D4A-B8F0-89F4CEB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9B6-F17E-4F48-BBD2-BEEFE63F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BCC-0A4B-47BE-BC7D-E464E7B2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087-8221-438D-AF4B-24BBDF0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530-1710-48E0-A70F-34B77F4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838-0BAE-474F-885A-82402E0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870-4067-4234-B6A0-EFC64BED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8661-65DD-4744-8E69-A4BF64DCF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