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5269"/>
        <c:axId val="36655844"/>
      </c:barChart>
      <c:catAx>
        <c:axId val="7515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55844"/>
        <c:crosses val="autoZero"/>
        <c:auto val="1"/>
        <c:lblAlgn val="ctr"/>
        <c:lblOffset val="100"/>
        <c:noMultiLvlLbl val="0"/>
      </c:catAx>
      <c:valAx>
        <c:axId val="36655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5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947-0F0C-427E-9F2E-01AF94DB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7A-96EB-4D3D-B6ED-D0D09739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9FD-EC93-4CAC-934F-3BCE0A84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460E-546E-440E-9344-44301838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E5D-4BA2-4393-8526-2679E1E6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6CA8-AB51-4969-8A3A-C8E47DD2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640-1BDF-4882-BE06-2914BC0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86A-76BC-46BC-8278-868A5E0A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49C-F816-4829-928A-8F992705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A66-BAB9-4F08-A3E1-0E76AD5F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058-9B5B-49E2-96BE-6FB5A684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232-0F4B-4A38-922E-EB196BA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23557-164E-416B-94D7-E18E5323C2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