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548177"/>
        <c:axId val="6396558"/>
      </c:barChart>
      <c:catAx>
        <c:axId val="245481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6558"/>
        <c:crosses val="autoZero"/>
        <c:auto val="1"/>
        <c:lblAlgn val="ctr"/>
        <c:lblOffset val="100"/>
        <c:noMultiLvlLbl val="0"/>
      </c:catAx>
      <c:valAx>
        <c:axId val="63965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481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02E6-F8B7-4E5B-BF88-E59AEB94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1459-0983-4BEF-BD7D-CF8DD808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E63D-5DB3-48F4-B4A9-2F730CB28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0941-182E-441F-BB19-21FA79323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2016-6665-4BCC-8F4C-9F059B8A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B23F-8961-4B8B-A429-24511B12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F0DB-7F90-4755-9433-29ED8FC3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0FA0-14B9-42FA-934F-881B1345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34B7-A265-4B72-817E-D8575F30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1ED6-0E88-4926-BE47-ADB47E24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3D02-75A8-4D3D-A616-517A2A6E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E378-3716-44A1-8BA4-BBEA7146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CF9BB-6431-4AC6-929F-93E0FD91B0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