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398988"/>
        <c:axId val="47419041"/>
      </c:barChart>
      <c:catAx>
        <c:axId val="603989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419041"/>
        <c:crosses val="autoZero"/>
        <c:auto val="1"/>
        <c:lblAlgn val="ctr"/>
        <c:lblOffset val="100"/>
        <c:noMultiLvlLbl val="0"/>
      </c:catAx>
      <c:valAx>
        <c:axId val="474190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3989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AB76-6F61-42DE-929C-CEE0B3B3F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9EF9-EA08-460A-83B3-7ECB9E10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FFDA-F4FC-4F2B-BA66-51D8F3F2C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C467-5259-4FF2-A978-19ECC4B71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FFDE-6F1F-4804-8A9F-A8766B2C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5FE8-4619-44E2-916F-D5AA69B1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CA8B-3C83-4B14-BCBE-CF320A6BC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0FD8-1C2A-4E55-BED0-9190BD70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ABBD-AE88-4A89-8D9F-BA5F16CD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1AC2-3AAF-48F0-AA5E-C298B330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5FD4-F05F-426F-BFBF-2DE7BF5C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6542-260B-4FDB-B457-E67F09CD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704BBF-3881-4D79-ACA0-5EC8911017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