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71247"/>
        <c:axId val="64063521"/>
      </c:barChart>
      <c:catAx>
        <c:axId val="70271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63521"/>
        <c:crosses val="autoZero"/>
        <c:auto val="1"/>
        <c:lblAlgn val="ctr"/>
        <c:lblOffset val="100"/>
        <c:noMultiLvlLbl val="0"/>
      </c:catAx>
      <c:valAx>
        <c:axId val="64063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71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E7E-B9E4-4787-AA1E-9FE1D3AE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EEF-F589-4ABA-AE9D-AA13CFA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B13-DFD7-44BB-A50A-FA09546D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30A-68E4-4B4A-B727-3F6274A3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A4E-0A44-421A-8ACE-D6923485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7AD-A11D-4863-B85B-1F524AF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3D3-D461-4EC3-83C3-D77114C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489-A2D4-4E71-9417-58321AEA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2AB-79CC-4F82-BA8B-24A24286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92E-8FF2-4A79-BE65-0BBBA91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6F3-BA8B-444C-AB99-9082B7DD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FF2-7F85-489D-9109-7DC38EE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76789-231E-4726-A91B-20D9BE8152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