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27085"/>
        <c:axId val="62498947"/>
      </c:barChart>
      <c:catAx>
        <c:axId val="750270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98947"/>
        <c:crosses val="autoZero"/>
        <c:auto val="1"/>
        <c:lblAlgn val="ctr"/>
        <c:lblOffset val="100"/>
        <c:noMultiLvlLbl val="0"/>
      </c:catAx>
      <c:valAx>
        <c:axId val="62498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270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19D9-D733-4551-AF99-8635F5E2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999-1E46-4082-A12A-A0C225B3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6B8-9188-4A42-BDF8-34CFCDCF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D119-4E9C-4A3C-BC0B-644E0F93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7FC-CDD1-4549-AE6C-295B5331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F3B1-FA85-4D9F-B364-D702B56B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93A-9993-48A0-94A3-D304AE4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A71-0288-429D-AD45-9B607D92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3C8-D582-4C7D-AF44-BC1EC41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332-D116-4F8E-8A01-9E4B20D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1B2-1FA5-4F11-80CD-9F0531F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C38-54E2-4413-A692-B0E8E0D8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4BCEA-D181-42EE-94F5-CA040F611E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