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49847"/>
        <c:axId val="16841419"/>
      </c:barChart>
      <c:catAx>
        <c:axId val="81049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41419"/>
        <c:crosses val="autoZero"/>
        <c:auto val="1"/>
        <c:lblAlgn val="ctr"/>
        <c:lblOffset val="100"/>
        <c:noMultiLvlLbl val="0"/>
      </c:catAx>
      <c:valAx>
        <c:axId val="16841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49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474B-3528-41FD-9993-3C1DB4DC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256-22A5-40CF-BB7A-2F293187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DC24-DF70-4D32-A5EE-49FB3C10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088-DE2D-418C-9BFA-20BC05A9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EE5-9324-4868-AB1B-332E1765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D45-1617-4878-AF82-2204A362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078A-757F-4C45-9BDC-BD62830C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F916-0FFE-4EB0-BBFD-3B422796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060-C10A-4FE9-9607-484EDEFC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D54E-7B76-463A-8879-8491460D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E2A-41AA-43E2-8B38-27843E3C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19D-D628-4E24-ABA2-BA23101C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F34E9-4645-4059-9864-B8888563B0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