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36952"/>
        <c:axId val="53732281"/>
      </c:barChart>
      <c:catAx>
        <c:axId val="74736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32281"/>
        <c:crosses val="autoZero"/>
        <c:auto val="1"/>
        <c:lblAlgn val="ctr"/>
        <c:lblOffset val="100"/>
        <c:noMultiLvlLbl val="0"/>
      </c:catAx>
      <c:valAx>
        <c:axId val="53732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36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25F-10A7-4A3F-BCAB-E8318EBA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E8AB-00A7-416F-B1C5-0D6D66EA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6F2-9F62-4618-BAA5-86879F53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3F1D-050E-4841-9408-BA24EE93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BA6-3B50-4695-B2E4-D45D66C7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7C0-CF0D-4EB6-84D7-35CE6EEB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9F7-E5F0-4EFB-AEAA-C781DD95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68D-9631-4F9E-89D8-8C0856C1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71F-D0DF-4F2F-B111-DE7EE4CC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F6E-7DEF-4A1C-9E73-8D98DFD1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E5E-A18B-4B84-BF38-98E9FE90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819-4612-47EB-90B8-43C97B3A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02909-B7AB-46C4-AE52-3A8F468A95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