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43147"/>
        <c:axId val="79934289"/>
      </c:barChart>
      <c:catAx>
        <c:axId val="1804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4289"/>
        <c:crosses val="autoZero"/>
        <c:auto val="1"/>
        <c:lblAlgn val="ctr"/>
        <c:lblOffset val="100"/>
        <c:noMultiLvlLbl val="0"/>
      </c:catAx>
      <c:valAx>
        <c:axId val="79934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FE7-8C89-457E-A64E-06413621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43B-91BE-4513-9B3D-38F99F7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A08-302D-4D9D-9500-B3F5D5D6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F6D-3F90-4A31-B1A0-8AB43446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27E-C813-42C5-B8CD-F7434774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F04-4A06-4A5E-AA02-56E3C3C2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A72-654E-49A3-AE9E-6DE41E5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487-7977-4E44-9A0A-E9A8D98E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C64-33C3-4F20-A62C-B8094DC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B18-2A8B-40D6-871A-58CDE56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E7B-FBA4-4C89-A0C1-F78D92B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B99-E911-4606-BBB9-A263481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F07F1-B318-4605-AE2F-05D63CE34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