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27469"/>
        <c:axId val="84600213"/>
      </c:barChart>
      <c:catAx>
        <c:axId val="74327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00213"/>
        <c:crosses val="autoZero"/>
        <c:auto val="1"/>
        <c:lblAlgn val="ctr"/>
        <c:lblOffset val="100"/>
        <c:noMultiLvlLbl val="0"/>
      </c:catAx>
      <c:valAx>
        <c:axId val="84600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27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19C-8A76-48A9-BD9D-FE0D71B3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D38-5361-400A-B7C5-8BB33A1E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C06-0D21-4F06-830A-C16E62BA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A1C-3FBB-427B-ABA9-D63CF76E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3C5-7604-48BE-B652-6CBACF18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6BC-5842-45E2-954E-A2F6455D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F97-AB02-4C69-834D-28F71D27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24A-1182-402A-B99A-9A995638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D4F-021C-4C31-83C0-77894AAA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030-2A36-4660-94F4-0F5DA4DD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971-F5E9-411B-8FD3-0BB179D4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502-65AB-462A-97C4-9F97A7C5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84E50-F4EC-439F-9069-02A5FB12DB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