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59090"/>
        <c:axId val="81215452"/>
      </c:barChart>
      <c:catAx>
        <c:axId val="65359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15452"/>
        <c:crosses val="autoZero"/>
        <c:auto val="1"/>
        <c:lblAlgn val="ctr"/>
        <c:lblOffset val="100"/>
        <c:noMultiLvlLbl val="0"/>
      </c:catAx>
      <c:valAx>
        <c:axId val="81215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59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CB3-73C8-4F1F-9BFB-CCA6CF5F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F16-97C2-49B6-A3C6-8075A450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22A-7675-4BDC-A33B-16A7F99E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DDF-1764-42FB-B2DD-98905063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C94-BDAE-4584-916E-B35D3503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16B-C10D-434A-BCDF-24B3BE5C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A82-B0A2-4F9E-A21A-8AFB2880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B95-BDA5-483D-8E4A-75C8841E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863-E6CE-488D-BE12-91520DE5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FB0-8DDF-4C15-98A8-A308EA5E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41E-1E9C-41A1-97ED-893651D9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AF3-F433-4324-9C18-E0115C3E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BC024-86F6-4C4B-AF5E-B0CDB1ED98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