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76247"/>
        <c:axId val="2899520"/>
      </c:barChart>
      <c:catAx>
        <c:axId val="31276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9520"/>
        <c:crosses val="autoZero"/>
        <c:auto val="1"/>
        <c:lblAlgn val="ctr"/>
        <c:lblOffset val="100"/>
        <c:noMultiLvlLbl val="0"/>
      </c:catAx>
      <c:valAx>
        <c:axId val="2899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76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A48-EDD6-43E7-9811-9D01FAB1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58C-DADC-4406-B31B-ABF55B5D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A51-AFBC-499D-9F60-EF358027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4CE-6E15-4FB5-8E94-8EE0A597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53A-64EB-41BA-A9F8-9BAB945E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2A7-9E60-43C6-BF8E-240436A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0C0-5818-46FD-AFC1-C70E637A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446-37D3-41A2-9D9D-B7C0C743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049-D2C0-4359-AA4C-A3CF7DBC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7EF-DC46-47AA-9A68-2306953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598-7153-434D-BAF2-1F8401E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F27-4E00-491F-B507-D0AFD2A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BA7A-71BB-4FFD-9A42-01E91DAF7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