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49579"/>
        <c:axId val="78172220"/>
      </c:barChart>
      <c:catAx>
        <c:axId val="30649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72220"/>
        <c:crosses val="autoZero"/>
        <c:auto val="1"/>
        <c:lblAlgn val="ctr"/>
        <c:lblOffset val="100"/>
        <c:noMultiLvlLbl val="0"/>
      </c:catAx>
      <c:valAx>
        <c:axId val="78172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49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8BB-0EF9-4DDD-84C6-4632FEC5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F0C-27F4-4EA8-8E95-41BD5C34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E83-E715-4074-B952-B8C5520C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671-2D35-4D7B-90AE-83234459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5B8-1899-4786-BD07-37134670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7E5-4334-4CA6-9569-03AF40DE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CAA-BB4B-4885-BC81-5820974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C60-9935-45A5-8A79-A90B5E9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165-35B2-4513-A7E4-D475F648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C9B-09C2-4024-AAE5-0D5BC0A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79B-4D9F-4FEB-BABF-280F9DE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5B5-2A62-42B1-B5A5-B3A49D4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1A6F8-62F8-498D-8313-E6250FE6BC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