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46882"/>
        <c:axId val="55798484"/>
      </c:barChart>
      <c:catAx>
        <c:axId val="91646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98484"/>
        <c:crosses val="autoZero"/>
        <c:auto val="1"/>
        <c:lblAlgn val="ctr"/>
        <c:lblOffset val="100"/>
        <c:noMultiLvlLbl val="0"/>
      </c:catAx>
      <c:valAx>
        <c:axId val="5579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46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EF5-3DEE-4D56-87AB-D68B28A5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A37-134C-47EC-81ED-F965D676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553-B309-4711-98E3-C5D775C4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75B-DD50-43F2-8846-08B27579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525-4898-42B9-81F4-B467A2FD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6FF-26D6-4F91-BA86-3B60C24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E0B-1CA1-4F8C-83A4-9F845687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B27-DEC6-4D75-8E23-3DE5AAA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09E-C726-48D7-A039-C6C99E43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B0B-33E2-416A-841C-4097DB6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012-8F58-4A7B-9F93-8F6EFE6D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312-9BFE-4337-B39F-9EBC54F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239D5-4227-48B5-801D-EDEEFAEDD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