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893204"/>
        <c:axId val="84167604"/>
      </c:barChart>
      <c:catAx>
        <c:axId val="338932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67604"/>
        <c:crosses val="autoZero"/>
        <c:auto val="1"/>
        <c:lblAlgn val="ctr"/>
        <c:lblOffset val="100"/>
        <c:noMultiLvlLbl val="0"/>
      </c:catAx>
      <c:valAx>
        <c:axId val="841676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932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C041-55B5-47B0-8ADC-B4A4AA08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EDBA-75E5-4C4E-A3DC-FE9872D6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1A5D-48DE-4BE5-8632-237E78F2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4E10-0CBB-4433-9682-43BE4C01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6B02-428E-49E5-8DD5-1E5BA732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D390-BB5F-4941-9A4D-4BD7CFE8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58FA-DCDD-43D8-94B4-17686227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95ED-C1BD-49B8-94CD-7A415C48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CE3D-8996-4337-A78D-CDD8EDA4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C9D2-41C4-4351-9D04-755E54E3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E87A-A368-4C01-99C5-12748E97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52EC-2E50-4CC8-8F0B-41B499D9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C7F32-A9C0-4E3B-AC43-26FE7057A6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