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63667"/>
        <c:axId val="52216937"/>
      </c:barChart>
      <c:catAx>
        <c:axId val="61163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16937"/>
        <c:crosses val="autoZero"/>
        <c:auto val="1"/>
        <c:lblAlgn val="ctr"/>
        <c:lblOffset val="100"/>
        <c:noMultiLvlLbl val="0"/>
      </c:catAx>
      <c:valAx>
        <c:axId val="52216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63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9B7-4B5D-41A8-B52C-181E5D1D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126-9A47-433A-928D-D1327BC0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751-3A7A-42B9-91BE-583724E0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E29-274F-4079-AC2B-650BCFA7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F8E-8638-4C0C-9311-25D97A28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49D-160E-4B72-9D76-BC03594D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422-1978-4202-A35F-CF59B8C1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962-B802-466C-86E5-5CDA0D92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E82-0138-4A0F-8C10-A208A49C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8A4-BE16-4CA8-A86D-99B4B0B3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212-07B1-40E6-8974-95520B1D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B45-E1D9-41AF-A672-C88B4972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775DC-EC22-4ADE-B7BE-B1478F71FD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