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537415"/>
        <c:axId val="14473574"/>
      </c:barChart>
      <c:catAx>
        <c:axId val="305374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473574"/>
        <c:crosses val="autoZero"/>
        <c:auto val="1"/>
        <c:lblAlgn val="ctr"/>
        <c:lblOffset val="100"/>
        <c:noMultiLvlLbl val="0"/>
      </c:catAx>
      <c:valAx>
        <c:axId val="144735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5374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85D9-0E2F-45A5-AA6E-B3DE08B72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09C0-C5BB-4561-9762-C352CD58B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64D5-46BB-40F6-AFC5-054DB548B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4A7F-6422-4BFE-96F9-3E34BD0F4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C49F-F528-4807-8625-896B0E342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DA1F-66A8-4BEF-851C-FA1547C59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9BF5-8452-4DA1-84E9-D62762242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9A3E-5F76-4B07-A3E5-B3C9E12E5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1F45-2A20-43CD-969F-465590302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7880-95B1-4B21-B48B-23CD24F0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50C9-56E1-42B0-B447-07833C5D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7AB7-DA21-443C-9E41-2D822F59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42B060-B294-4AE9-9C55-83A0C67E8A8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