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72354"/>
        <c:axId val="92625769"/>
      </c:barChart>
      <c:catAx>
        <c:axId val="42272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5769"/>
        <c:crosses val="autoZero"/>
        <c:auto val="1"/>
        <c:lblAlgn val="ctr"/>
        <c:lblOffset val="100"/>
        <c:noMultiLvlLbl val="0"/>
      </c:catAx>
      <c:valAx>
        <c:axId val="92625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72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270-DD5E-4706-837B-84812F0F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DD8-B0F7-410C-B728-0033FB2F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D76-A7EA-4640-80B7-D69F61CE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C43-B0D0-44FB-A13E-0D7A24A8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EE2-879B-4D16-8B26-2075912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915-F5CB-43E1-8E87-DA071B7A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F8D-E116-4972-AD67-1F23EB1F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122-FA1F-4F0C-87A5-10BB00CE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127-B89F-45BA-9907-808EF917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E20-CA81-4EA4-87CF-3B00FE13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DEA-8A14-4E3E-9355-722B3CAF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C9C-4D56-42EF-B1CB-A2D3ADE7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C4D73-DF94-4099-9724-2E487C7F5C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