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3489"/>
        <c:axId val="38930919"/>
      </c:barChart>
      <c:catAx>
        <c:axId val="78253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30919"/>
        <c:crosses val="autoZero"/>
        <c:auto val="1"/>
        <c:lblAlgn val="ctr"/>
        <c:lblOffset val="100"/>
        <c:noMultiLvlLbl val="0"/>
      </c:catAx>
      <c:valAx>
        <c:axId val="38930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3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0F4-2ED2-4DD4-8005-D83E4A02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3C1-09CA-47C3-A5F7-34B72649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C97-DE43-4067-9408-404C9FF7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878-9C51-4F54-9B22-A12139BE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7E0-2488-4BDB-B7ED-630A483C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CB7-E382-42A9-8742-9144E221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1C8-6A09-41BC-B256-8AF029E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FA2-4AAB-4AA1-9654-65084C9F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FA2-2F52-491C-A190-2F2B34F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34B-1092-4EC7-8946-83E3283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3CC-CB17-412F-A663-C874506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2FB-F513-42DB-9BA8-9E16DE7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946C3-B65D-4371-AFA2-808662FD8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