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09144"/>
        <c:axId val="35718814"/>
      </c:barChart>
      <c:catAx>
        <c:axId val="22209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18814"/>
        <c:crosses val="autoZero"/>
        <c:auto val="1"/>
        <c:lblAlgn val="ctr"/>
        <c:lblOffset val="100"/>
        <c:noMultiLvlLbl val="0"/>
      </c:catAx>
      <c:valAx>
        <c:axId val="35718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9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721-93A0-4C89-8D63-107B632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404-A204-456F-893A-88206B76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46D-B926-45DE-A36C-53F194F8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6DF-1FC3-4DEC-B7F6-B3E3A9A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347-D054-4F77-A501-74907CA0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119-6FF2-4B50-AB9B-52682F6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63E-1C92-4552-94D3-533C231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A42-EEB2-4F03-95F0-9849326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17E-43E8-4305-BB8E-6CF51C7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75F-1B7A-481B-970F-0FA4CF5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F3C-D4A4-409B-B85E-7C01F65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7AB-BE7F-4129-9E7C-81F16CB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7D7D1-C229-470D-BED7-2FFB4DE95C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