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07413"/>
        <c:axId val="8841286"/>
      </c:barChart>
      <c:catAx>
        <c:axId val="32307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1286"/>
        <c:crosses val="autoZero"/>
        <c:auto val="1"/>
        <c:lblAlgn val="ctr"/>
        <c:lblOffset val="100"/>
        <c:noMultiLvlLbl val="0"/>
      </c:catAx>
      <c:valAx>
        <c:axId val="8841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07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D90-C5AF-4444-892E-BEDA14E9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4440-866C-449A-8EE5-2A2FFBAE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239-8436-44D7-A4B7-F70B0B42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F223-678A-4BE5-B873-41A9ACD7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8E7F-E435-4C0F-BF14-4B4797E3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2536-5EA4-4B98-9D37-19EA2DE7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7870-63EE-4418-9233-B5465D48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A28-3EBB-4FD2-9DEC-1E1875C9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253-E239-47A0-8B31-A6FA7FE6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61A-8B58-40C6-9B26-FE1229B6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9B72-5FE2-4EE8-8D9B-23F06726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C6A-BFB5-4F2E-8E43-17354902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82572-4D81-4773-BA35-3892A0BF06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