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92791"/>
        <c:axId val="68029836"/>
      </c:barChart>
      <c:catAx>
        <c:axId val="63192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29836"/>
        <c:crosses val="autoZero"/>
        <c:auto val="1"/>
        <c:lblAlgn val="ctr"/>
        <c:lblOffset val="100"/>
        <c:noMultiLvlLbl val="0"/>
      </c:catAx>
      <c:valAx>
        <c:axId val="68029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92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171-AF2A-4906-967F-220A3DD7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F2F-DAA7-483D-A00E-1470979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DD1-2E7B-40DD-99F1-51939A26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251-4DEF-4E20-9B02-FF0C7697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7B9-F564-4DF5-97AE-C650D52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B81-E7C2-4C04-B298-41903C2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E5F-5E04-4320-B84F-58E8E2E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4D2-60AE-449E-99A7-7D7FC9CF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174-09A5-40D7-BF64-2C9C99B3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A63-020C-4435-9200-FFCF6D6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40E-D8D9-47DE-A09A-1B608E5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4DD-C78E-46AC-BA63-6997930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E6E77-9EEB-44B7-B74C-4B78555D44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