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391481"/>
        <c:axId val="55370034"/>
      </c:barChart>
      <c:catAx>
        <c:axId val="973914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70034"/>
        <c:crosses val="autoZero"/>
        <c:auto val="1"/>
        <c:lblAlgn val="ctr"/>
        <c:lblOffset val="100"/>
        <c:noMultiLvlLbl val="0"/>
      </c:catAx>
      <c:valAx>
        <c:axId val="553700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914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0B19-7AC8-4085-9E1B-0FD0487C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D088-3B5B-4CEE-B496-DEDF127B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8BAA-E7FC-4824-AC96-CACB3FB7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AB29-28E5-411F-9F09-6EC5F0AF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63B3-5253-498F-A311-CD8D3022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C8EF-10C6-4196-9F0E-4CD94D05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DC18-4E62-49BF-B656-2EB47684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4504-DBE6-47FE-9773-1E4830AD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8268-BB04-419E-BA66-48655C88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3D59-0C40-40D0-BDD6-D1C3BA1B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B57E-612C-4082-9DFB-227F99C9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2055-7363-4826-B051-30FB20D9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A2D29-DBBD-4CB9-9F07-16DAABC9F7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