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40705"/>
        <c:axId val="14310175"/>
      </c:barChart>
      <c:catAx>
        <c:axId val="33407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310175"/>
        <c:crosses val="autoZero"/>
        <c:auto val="1"/>
        <c:lblAlgn val="ctr"/>
        <c:lblOffset val="100"/>
        <c:noMultiLvlLbl val="0"/>
      </c:catAx>
      <c:valAx>
        <c:axId val="143101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407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C96D-7CA1-46E1-9806-AE8595A24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D41A-3865-46D3-AFCD-907E090B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CEAC-8C9B-4DFC-94E0-E07F6B081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B8FE-FBF0-4B6A-8B1A-9CEE091D8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7D48-8718-4918-82C0-DB9CE62C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E5C7-5E5C-40D2-89BA-64E8221A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6766-3C66-4849-B731-7DFE71C9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5266-E318-46D7-AC7A-1896821C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376E-843A-4638-BB39-D2F39EB1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1DAE-8B28-42DB-8968-B90E6F31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403D-967D-44DC-BD48-C2756B72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1AB6-3760-44B3-B05D-4088CAE0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BD5D6-B99F-4952-BFB8-4CE31C7D42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