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FC7D-747C-4DCD-AFEB-A0CEAE5C6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CAAC-5BD9-4CBD-B1C3-2D599636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C28C-FD93-49CF-AE05-0ECC49D84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4E2A-ABF1-409B-9F51-71036E21A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71DD-CA78-4292-AD1A-AD95E133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1EF0-30DC-4EA6-8F97-836FD307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9626-64F3-4DD0-BF94-1D941CE8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CD96-85D6-4E1F-A047-ACC1BF62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47FA-CD72-4989-8573-41EEC630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DA78-73E5-4B9A-AB39-93A7788E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E171-B2C9-4088-B3D4-5E0CF049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580D-E6A9-4D4A-9F84-22165756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350B-35AB-457B-B9CB-7E50964C7DA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E6B9-A1E8-427E-8D7B-438B89BB3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6ED9-A9F1-40BF-AE37-280DF19DCC3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19E367-025C-4AE8-B4EF-269DE44590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finition of an object and the object 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an object inherits behavior and variables from (recurs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inherits behavior and variables from a 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(instance of a class) that has been created and exists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ariable available to all functions in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. Can be called by sending message to an object of this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D38D-5335-4A83-8155-895E7453CDE8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37429D-D7E1-4B73-85EB-69F1EEFD09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2" idx="4"/>
            <a:endCxn id="171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2" idx="4"/>
            <a:endCxn id="170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0840" y="252720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44CC-E82B-4794-A1B1-6D1838365B8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5A3141-5A30-41D1-9E77-40E7D314FF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34AE-CE12-435B-A382-68E4F3A6079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84D5F0-720B-4075-9BCE-836202B039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A416-C47A-4651-AA29-2CAFD9E80BB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2136BB-818F-45C1-AD26-F0F513AFF1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C6B9-CEC8-485D-B853-9A685504B93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695143-2445-4AE6-8DBA-E37E666AEF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232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8" idx="4"/>
            <a:endCxn id="230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30" idx="4"/>
            <a:endCxn id="220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28" idx="1"/>
            <a:endCxn id="221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29" idx="3"/>
            <a:endCxn id="227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41" idx="1"/>
            <a:endCxn id="237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2" idx="3"/>
            <a:endCxn id="243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E0AB-3CE7-420F-BB63-C8586927112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52A95-4810-4F50-8BB4-D311D0992D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4" idx="1"/>
            <a:endCxn id="272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2" idx="7"/>
            <a:endCxn id="273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4" idx="6"/>
            <a:endCxn id="273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activity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4A71-6881-49FE-A3AE-48C8766F2E1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878BBA-D2CF-4930-9470-3D6867B09D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FB4E-6317-4F02-A1BF-2AF14DC2F5E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4391BF-7043-4F37-9552-575038FBEC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23600" y="2212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23600" y="26510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3320" y="21938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96" idx="2"/>
            <a:endCxn id="300" idx="7"/>
          </p:cNvCxnSpPr>
          <p:nvPr/>
        </p:nvCxnSpPr>
        <p:spPr>
          <a:xfrm rot="5400000">
            <a:off x="5038920" y="3537360"/>
            <a:ext cx="1119960" cy="26136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296" idx="2"/>
            <a:endCxn id="301" idx="0"/>
          </p:cNvCxnSpPr>
          <p:nvPr/>
        </p:nvCxnSpPr>
        <p:spPr>
          <a:xfrm flipH="1" rot="16200000">
            <a:off x="5404680" y="3432600"/>
            <a:ext cx="108324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296" idx="2"/>
            <a:endCxn id="302" idx="0"/>
          </p:cNvCxnSpPr>
          <p:nvPr/>
        </p:nvCxnSpPr>
        <p:spPr>
          <a:xfrm flipH="1" rot="16200000">
            <a:off x="5775120" y="3061440"/>
            <a:ext cx="1083240" cy="1176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296" idx="2"/>
            <a:endCxn id="309" idx="0"/>
          </p:cNvCxnSpPr>
          <p:nvPr/>
        </p:nvCxnSpPr>
        <p:spPr>
          <a:xfrm flipH="1" rot="16200000">
            <a:off x="6184800" y="2651760"/>
            <a:ext cx="1083240" cy="1996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298" idx="2"/>
            <a:endCxn id="304" idx="0"/>
          </p:cNvCxnSpPr>
          <p:nvPr/>
        </p:nvCxnSpPr>
        <p:spPr>
          <a:xfrm flipH="1" rot="16200000">
            <a:off x="7203240" y="2774520"/>
            <a:ext cx="682920" cy="435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62400" y="2647800"/>
            <a:ext cx="17146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7F61-BB7A-465E-B8D0-715739521C9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6F2A2F-D633-4694-9D4B-C759A59672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6816-A74E-4C40-880B-24061BD8749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A5BC2-4D60-427F-936C-F566C68979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2"/>
            <a:endCxn id="325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3F5E-DCA6-4DB3-A9EF-F204D11D33F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9B10F0-890F-42D5-B106-6A34DA050C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estroyed using a no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ropping a memory zone can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5B31-6E3F-4BAF-9603-25453860C8D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490723-CA23-4D7E-96B7-36F01659C9A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96" idx="2"/>
            <a:endCxn id="391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A1B3-5713-4360-85DF-382F047FC32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845BEB-5B51-4935-B5E9-8393366FE8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F025-1C8F-4F71-AD57-CCAEB727558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549BD-4AC2-4B47-A417-36B986E1B0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e m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5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385C-4F0B-4609-AE2F-49C4162D526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86DA99-1EB1-40A9-AD55-2513213B70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7" idx="1"/>
            <a:endCxn id="430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2" name=""/>
          <p:cNvCxnSpPr>
            <a:stCxn id="438" idx="3"/>
            <a:endCxn id="429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3" name=""/>
          <p:cNvCxnSpPr>
            <a:stCxn id="439" idx="1"/>
            <a:endCxn id="427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44" idx="2"/>
            <a:endCxn id="428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3798-EFD0-436D-913E-6F997FC1CF5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29B5C1-2054-47B1-816D-3DF95E4D08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49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8B6C-AC74-499F-B5EA-23EE1714D00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D58619-A3D1-4AE2-A433-22282E465D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8" idx="3"/>
            <a:endCxn id="458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9" idx="1"/>
            <a:endCxn id="455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70" idx="2"/>
            <a:endCxn id="461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5" name=""/>
          <p:cNvCxnSpPr>
            <a:stCxn id="471" idx="2"/>
            <a:endCxn id="459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6" name=""/>
          <p:cNvCxnSpPr>
            <a:stCxn id="467" idx="0"/>
            <a:endCxn id="456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66" idx="0"/>
            <a:endCxn id="454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8" idx="0"/>
            <a:endCxn id="465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ED70-E22E-445F-8F2F-E89EB1CCDE8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54B9B6-00C5-425E-8D98-0D04552B9A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Mac OS X (Rhaps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1128-374F-415B-9F50-5179710A624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C07623-0512-48D2-B686-EA00F3A50D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objects in Objective-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bject is defined in terms of it’s interface and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 or project consists of a collection of object declarations and definitions (*.h and *.m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WATCHC1" descr=""/>
          <p:cNvPicPr/>
          <p:nvPr/>
        </p:nvPicPr>
        <p:blipFill>
          <a:blip r:embed="rId1"/>
          <a:stretch/>
        </p:blipFill>
        <p:spPr>
          <a:xfrm>
            <a:off x="1481040" y="1854360"/>
            <a:ext cx="1838520" cy="1409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718200" y="56530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: *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40160" y="3149640"/>
            <a:ext cx="2082600" cy="226044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mplem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760" y="3301920"/>
            <a:ext cx="2133360" cy="232416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nterf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inst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/>
          <p:nvPr/>
        </p:nvCxnSpPr>
        <p:spPr>
          <a:xfrm flipH="1" flipV="1" rot="10800000">
            <a:off x="1722240" y="2583360"/>
            <a:ext cx="81360" cy="1010520"/>
          </a:xfrm>
          <a:prstGeom prst="bentConnector4">
            <a:avLst>
              <a:gd name="adj1" fmla="val -282222"/>
              <a:gd name="adj2" fmla="val 84889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"/>
          <p:cNvCxnSpPr/>
          <p:nvPr/>
        </p:nvCxnSpPr>
        <p:spPr>
          <a:xfrm>
            <a:off x="3002040" y="2584440"/>
            <a:ext cx="148320" cy="78192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2494440" y="538632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: *.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04C7-A5AC-463D-9BD8-32629780A47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27E99-2D38-459E-9072-B8135B9471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a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: Creation/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multiple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CAF9-22CD-4C52-BCAF-472E4AC541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EC1BD-BCC4-4096-ADD6-F2E2C26935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7" idx="4"/>
            <a:endCxn id="499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7" idx="4"/>
            <a:endCxn id="498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53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endCxn id="493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endCxn id="492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497" idx="0"/>
            <a:endCxn id="494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499" idx="2"/>
            <a:endCxn id="495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12" idx="1"/>
            <a:endCxn id="503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11" idx="1"/>
            <a:endCxn id="503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716B-0DD8-4536-9B55-141895E854BB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E23D4E-E98F-4E48-8C9E-3E55C4B79D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27720" y="1866960"/>
            <a:ext cx="427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E.g. ‘step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: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X:(type)x Y:(type)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setX:Y:’ that takes tw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2720" y="1981080"/>
            <a:ext cx="404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0A89-2809-4FB2-9296-7EF44BD34E8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FFE821-099E-4B49-AF87-6BE4379C16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266B-03D6-46DD-8687-CD627E7F50E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EA772-485D-427A-85AE-3BFE0F51B2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: (type) v1 argName2: (type) v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v1,(type) v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5DE8-94C2-44F7-AC56-75493B2D5DC8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09EA3-A5D6-4EC7-B371-B3DF702B66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8760-0B6B-481E-A056-EAB07D3DED7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E0EED6-FB8C-45E4-B591-658D254ECB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693B-A8E0-4A00-BA77-9F30BE55EDEC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0A8787-6F41-4984-B29A-81EC746EEB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turn type of method is not defined value must return an id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E865-7605-460A-9FCC-0A4AAB0A3EBB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D2F54C-FA3E-4C26-BBD4-FF7EBB4751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small ObjC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95400" y="4410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89240" y="4427640"/>
            <a:ext cx="9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58040" y="2106720"/>
            <a:ext cx="91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02560" y="212256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569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575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581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587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593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61D4-C53F-43B9-83B6-405502391285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2925AA-19EB-42B5-9B31-F2B9F021C1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layers A and B alternate aiming revolver at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n starts emp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pulling trigger each player must load new bullet in revo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revolver doesn’t go off player hands gun over to op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9A43-2436-40DB-9FAB-6E64D8DD6BB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8F1D8E-72F2-4B81-A4E1-B9D72D79EA0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vival prob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469520" y="1601640"/>
            <a:ext cx="1404000" cy="981000"/>
            <a:chOff x="1469520" y="1601640"/>
            <a:chExt cx="1404000" cy="981000"/>
          </a:xfrm>
        </p:grpSpPr>
        <p:sp>
          <p:nvSpPr>
            <p:cNvPr id="604" name=""/>
            <p:cNvSpPr/>
            <p:nvPr/>
          </p:nvSpPr>
          <p:spPr>
            <a:xfrm flipH="1">
              <a:off x="1469520" y="2081160"/>
              <a:ext cx="58428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4920" y="2081160"/>
              <a:ext cx="7686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92880" y="1601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475000" y="2389320"/>
            <a:ext cx="1402920" cy="981000"/>
            <a:chOff x="2475000" y="2389320"/>
            <a:chExt cx="1402920" cy="981000"/>
          </a:xfrm>
        </p:grpSpPr>
        <p:sp>
          <p:nvSpPr>
            <p:cNvPr id="608" name=""/>
            <p:cNvSpPr/>
            <p:nvPr/>
          </p:nvSpPr>
          <p:spPr>
            <a:xfrm flipH="1">
              <a:off x="2475000" y="2868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09680" y="2868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05200" y="2389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610080" y="3141720"/>
            <a:ext cx="1402920" cy="981000"/>
            <a:chOff x="3610080" y="3141720"/>
            <a:chExt cx="1402920" cy="981000"/>
          </a:xfrm>
        </p:grpSpPr>
        <p:sp>
          <p:nvSpPr>
            <p:cNvPr id="612" name=""/>
            <p:cNvSpPr/>
            <p:nvPr/>
          </p:nvSpPr>
          <p:spPr>
            <a:xfrm flipH="1">
              <a:off x="3610080" y="36212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44760" y="36212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32360" y="314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680000" y="3876840"/>
            <a:ext cx="1402920" cy="981000"/>
            <a:chOff x="4680000" y="3876840"/>
            <a:chExt cx="1402920" cy="981000"/>
          </a:xfrm>
        </p:grpSpPr>
        <p:sp>
          <p:nvSpPr>
            <p:cNvPr id="616" name=""/>
            <p:cNvSpPr/>
            <p:nvPr/>
          </p:nvSpPr>
          <p:spPr>
            <a:xfrm flipH="1">
              <a:off x="4680000" y="435636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14680" y="435636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10200" y="3876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5783400" y="4594320"/>
            <a:ext cx="1402920" cy="981000"/>
            <a:chOff x="5783400" y="4594320"/>
            <a:chExt cx="1402920" cy="981000"/>
          </a:xfrm>
        </p:grpSpPr>
        <p:sp>
          <p:nvSpPr>
            <p:cNvPr id="620" name=""/>
            <p:cNvSpPr/>
            <p:nvPr/>
          </p:nvSpPr>
          <p:spPr>
            <a:xfrm flipH="1">
              <a:off x="5783400" y="5073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18080" y="5073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05680" y="459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001160" y="196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39360" y="1901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87120" y="28209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41320" y="27036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152360" y="2408400"/>
            <a:ext cx="250920" cy="568080"/>
            <a:chOff x="1152360" y="2408400"/>
            <a:chExt cx="250920" cy="568080"/>
          </a:xfrm>
        </p:grpSpPr>
        <p:sp>
          <p:nvSpPr>
            <p:cNvPr id="628" name=""/>
            <p:cNvSpPr/>
            <p:nvPr/>
          </p:nvSpPr>
          <p:spPr>
            <a:xfrm>
              <a:off x="1270080" y="240840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259236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2206800" y="3313080"/>
            <a:ext cx="250560" cy="568440"/>
            <a:chOff x="2206800" y="3313080"/>
            <a:chExt cx="250560" cy="568440"/>
          </a:xfrm>
        </p:grpSpPr>
        <p:sp>
          <p:nvSpPr>
            <p:cNvPr id="631" name=""/>
            <p:cNvSpPr/>
            <p:nvPr/>
          </p:nvSpPr>
          <p:spPr>
            <a:xfrm>
              <a:off x="2324160" y="331308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06800" y="3497400"/>
              <a:ext cx="25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343320" y="4165560"/>
            <a:ext cx="250920" cy="568440"/>
            <a:chOff x="3343320" y="4165560"/>
            <a:chExt cx="250920" cy="568440"/>
          </a:xfrm>
        </p:grpSpPr>
        <p:sp>
          <p:nvSpPr>
            <p:cNvPr id="634" name=""/>
            <p:cNvSpPr/>
            <p:nvPr/>
          </p:nvSpPr>
          <p:spPr>
            <a:xfrm>
              <a:off x="3461040" y="41655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43320" y="43498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429080" y="4917960"/>
            <a:ext cx="250920" cy="568440"/>
            <a:chOff x="4429080" y="4917960"/>
            <a:chExt cx="250920" cy="568440"/>
          </a:xfrm>
        </p:grpSpPr>
        <p:sp>
          <p:nvSpPr>
            <p:cNvPr id="637" name=""/>
            <p:cNvSpPr/>
            <p:nvPr/>
          </p:nvSpPr>
          <p:spPr>
            <a:xfrm>
              <a:off x="4546800" y="49179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29080" y="51022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481720" y="5600880"/>
            <a:ext cx="250920" cy="568080"/>
            <a:chOff x="5481720" y="5600880"/>
            <a:chExt cx="250920" cy="568080"/>
          </a:xfrm>
        </p:grpSpPr>
        <p:sp>
          <p:nvSpPr>
            <p:cNvPr id="640" name=""/>
            <p:cNvSpPr/>
            <p:nvPr/>
          </p:nvSpPr>
          <p:spPr>
            <a:xfrm>
              <a:off x="5599440" y="560088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81720" y="57848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253280" y="5602320"/>
            <a:ext cx="250920" cy="568440"/>
            <a:chOff x="7253280" y="5602320"/>
            <a:chExt cx="250920" cy="568440"/>
          </a:xfrm>
        </p:grpSpPr>
        <p:sp>
          <p:nvSpPr>
            <p:cNvPr id="643" name=""/>
            <p:cNvSpPr/>
            <p:nvPr/>
          </p:nvSpPr>
          <p:spPr>
            <a:xfrm>
              <a:off x="7371000" y="560232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53280" y="57866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2957040" y="358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093560" y="42926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110720" y="5160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162040" y="4994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60480" y="34066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47760" y="4175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66920" y="475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C520-E9EF-4251-A739-C946200AA160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6A9BB6-4C87-435A-B174-F9DACF75B7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o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tudy complex nonlinear systems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co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r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based models allow us to stu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, heterogeneous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s which face costs of information acquisition and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ed subsystems - economy, markets, firms, plants,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96F1-3E66-4F3D-9301-4BBA83D24D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447D0-726E-4004-AB69-37E0A16A5A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project: 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31400" y="441000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07160" y="442764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93680" y="210672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20480" y="212256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664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670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676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682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688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F9BF-4EFF-47C4-A925-6B0324F1BF72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7A0FB6-8BEE-48AA-ADBB-DFEF5EE247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Play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nam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 oth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init: (int) 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tOther: 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is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play: 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3911760"/>
            <a:ext cx="166356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P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Play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ow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he is 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ity of other p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Player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 to “aliv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evol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194600" y="376704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64440" y="418932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38760" y="2362320"/>
            <a:ext cx="16635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"/>
          <p:cNvCxnSpPr>
            <a:stCxn id="699" idx="4"/>
            <a:endCxn id="696" idx="2"/>
          </p:cNvCxnSpPr>
          <p:nvPr/>
        </p:nvCxnSpPr>
        <p:spPr>
          <a:xfrm rot="5400000">
            <a:off x="6337440" y="396288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9" idx="0"/>
            <a:endCxn id="701" idx="3"/>
          </p:cNvCxnSpPr>
          <p:nvPr/>
        </p:nvCxnSpPr>
        <p:spPr>
          <a:xfrm flipV="1" rot="16200000">
            <a:off x="6681960" y="284184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F828-96FB-43C0-98FF-4CBFD62B328B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436796-2B2C-4962-A9E0-4D96C5FB42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Revol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Revolv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Gun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new bul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age trigger and return result (fired, didn’t f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Revolv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bullet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empt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lo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trigg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991200" y="3119400"/>
            <a:ext cx="825480" cy="8254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707" idx="4"/>
          </p:cNvCxnSpPr>
          <p:nvPr/>
        </p:nvCxnSpPr>
        <p:spPr>
          <a:xfrm rot="5400000">
            <a:off x="6134400" y="331524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7" idx="0"/>
          </p:cNvCxnSpPr>
          <p:nvPr/>
        </p:nvCxnSpPr>
        <p:spPr>
          <a:xfrm flipV="1" rot="16200000">
            <a:off x="6478920" y="219420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0" name=""/>
          <p:cNvSpPr/>
          <p:nvPr/>
        </p:nvSpPr>
        <p:spPr>
          <a:xfrm>
            <a:off x="7048440" y="355608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AC50-F187-4FD0-BFE6-32E14B7F4DDC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15E58-1302-43A6-AB61-E99761BA8C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are created in main.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hands empty revolver object off to playe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A loads bullet and pulls trig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A is alive hands gun to 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to 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B loads bullet and pulls tri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B is alive hands gun to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9E1B-163A-474A-BD85-347BEB059885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A9D687-AD83-4E32-88EC-8D7D11E89F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5460840" y="1574640"/>
            <a:ext cx="2578320" cy="2387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endCxn id="716" idx="2"/>
          </p:cNvCxnSpPr>
          <p:nvPr/>
        </p:nvCxnSpPr>
        <p:spPr>
          <a:xfrm rot="10800000">
            <a:off x="1370880" y="2401200"/>
            <a:ext cx="4687200" cy="3396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718" idx="2"/>
            <a:endCxn id="716" idx="2"/>
          </p:cNvCxnSpPr>
          <p:nvPr/>
        </p:nvCxnSpPr>
        <p:spPr>
          <a:xfrm rot="10800000">
            <a:off x="1370880" y="2401200"/>
            <a:ext cx="2946960" cy="2405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87320" y="1574640"/>
            <a:ext cx="1168560" cy="876600"/>
          </a:xfrm>
          <a:prstGeom prst="flowChartDocumen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2548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16200" y="27115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0" idx="6"/>
            <a:endCxn id="721" idx="2"/>
          </p:cNvCxnSpPr>
          <p:nvPr/>
        </p:nvCxnSpPr>
        <p:spPr>
          <a:xfrm>
            <a:off x="1584360" y="29779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257796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/>
          <p:nvPr/>
        </p:nvCxnSpPr>
        <p:spPr>
          <a:xfrm>
            <a:off x="2371680" y="296532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256536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56080" y="3575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"/>
          <p:cNvCxnSpPr>
            <a:stCxn id="725" idx="6"/>
            <a:endCxn id="726" idx="2"/>
          </p:cNvCxnSpPr>
          <p:nvPr/>
        </p:nvCxnSpPr>
        <p:spPr>
          <a:xfrm>
            <a:off x="3324240" y="38415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8" name=""/>
          <p:cNvSpPr/>
          <p:nvPr/>
        </p:nvSpPr>
        <p:spPr>
          <a:xfrm>
            <a:off x="431784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17840" y="44388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08560" y="45403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18" idx="6"/>
            <a:endCxn id="729" idx="2"/>
          </p:cNvCxnSpPr>
          <p:nvPr/>
        </p:nvCxnSpPr>
        <p:spPr>
          <a:xfrm>
            <a:off x="5076720" y="48067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1" name=""/>
          <p:cNvCxnSpPr/>
          <p:nvPr/>
        </p:nvCxnSpPr>
        <p:spPr>
          <a:xfrm>
            <a:off x="4644720" y="426096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2" name=""/>
          <p:cNvCxnSpPr/>
          <p:nvPr/>
        </p:nvCxnSpPr>
        <p:spPr>
          <a:xfrm>
            <a:off x="2917440" y="3295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723" idx="0"/>
            <a:endCxn id="716" idx="3"/>
          </p:cNvCxnSpPr>
          <p:nvPr/>
        </p:nvCxnSpPr>
        <p:spPr>
          <a:xfrm flipV="1" rot="16200000">
            <a:off x="2157840" y="1810080"/>
            <a:ext cx="597600" cy="1002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4" name=""/>
          <p:cNvSpPr/>
          <p:nvPr/>
        </p:nvSpPr>
        <p:spPr>
          <a:xfrm>
            <a:off x="6083280" y="4464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/>
          <p:nvPr/>
        </p:nvCxnSpPr>
        <p:spPr>
          <a:xfrm>
            <a:off x="5877000" y="48193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"/>
          <p:cNvSpPr/>
          <p:nvPr/>
        </p:nvSpPr>
        <p:spPr>
          <a:xfrm>
            <a:off x="607068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61040" y="5429160"/>
            <a:ext cx="57492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36" idx="6"/>
            <a:endCxn id="737" idx="2"/>
          </p:cNvCxnSpPr>
          <p:nvPr/>
        </p:nvCxnSpPr>
        <p:spPr>
          <a:xfrm>
            <a:off x="6829200" y="5695560"/>
            <a:ext cx="23220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782316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/>
          <p:nvPr/>
        </p:nvCxnSpPr>
        <p:spPr>
          <a:xfrm>
            <a:off x="7616880" y="56829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"/>
          <p:cNvCxnSpPr/>
          <p:nvPr/>
        </p:nvCxnSpPr>
        <p:spPr>
          <a:xfrm>
            <a:off x="6422760" y="5149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"/>
          <p:cNvSpPr/>
          <p:nvPr/>
        </p:nvSpPr>
        <p:spPr>
          <a:xfrm>
            <a:off x="2301120" y="2098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9040" y="4575240"/>
            <a:ext cx="1316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301120" y="5527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/>
          <p:nvPr/>
        </p:nvCxnSpPr>
        <p:spPr>
          <a:xfrm>
            <a:off x="8238600" y="60390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6" name=""/>
          <p:cNvCxnSpPr/>
          <p:nvPr/>
        </p:nvCxnSpPr>
        <p:spPr>
          <a:xfrm>
            <a:off x="4098960" y="381600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7" name=""/>
          <p:cNvSpPr/>
          <p:nvPr/>
        </p:nvSpPr>
        <p:spPr>
          <a:xfrm>
            <a:off x="5727600" y="161928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53160" y="23684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449040" y="1781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448680" y="25686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448320" y="32544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Re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880240" y="3143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CDEA-9B51-4109-BF62-67E97FDDCDB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7ECA46-4746-431C-9C1D-CDF214CCF6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19400" y="2917800"/>
            <a:ext cx="1009440" cy="9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7846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128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938840" y="2247840"/>
            <a:ext cx="262224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1 THEN return self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8" name=""/>
          <p:cNvCxnSpPr/>
          <p:nvPr/>
        </p:nvCxnSpPr>
        <p:spPr>
          <a:xfrm>
            <a:off x="178740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9" name=""/>
          <p:cNvCxnSpPr/>
          <p:nvPr/>
        </p:nvCxnSpPr>
        <p:spPr>
          <a:xfrm>
            <a:off x="333684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/>
          <p:nvPr/>
        </p:nvCxnSpPr>
        <p:spPr>
          <a:xfrm>
            <a:off x="4187520" y="4019040"/>
            <a:ext cx="3960" cy="242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/>
          <p:nvPr/>
        </p:nvCxnSpPr>
        <p:spPr>
          <a:xfrm flipV="1">
            <a:off x="4187880" y="2629800"/>
            <a:ext cx="2160" cy="253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"/>
          <p:cNvSpPr/>
          <p:nvPr/>
        </p:nvSpPr>
        <p:spPr>
          <a:xfrm>
            <a:off x="4876200" y="4229280"/>
            <a:ext cx="347112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0 THEN send message B play: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809880" y="423540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13240" y="4280040"/>
            <a:ext cx="23767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99760" y="2222640"/>
            <a:ext cx="24073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heads THEN retur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retur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870280"/>
            <a:ext cx="11412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790640" y="35938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4406760" y="4140000"/>
            <a:ext cx="47016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4381560" y="2438280"/>
            <a:ext cx="5587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0E4A-4BD8-4E86-A420-3503063654E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D907EB-3F90-4FBE-BB82-0FC1551620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B5EF-CA3B-4FEE-B820-BB2C0B1D66B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74B502-F561-44DD-A3F2-F4591C7151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4A54-C511-4B95-B2B9-AFDFC8006A1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B66DE7-6A8D-4D80-B6C4-767E208C9F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endCxn id="51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7AAE-754F-494C-9D0C-DBA028A57FD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1E9683-026B-4658-9378-25699F0D77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nched in 1994 by Chris Langton at Santa Fe Institute in New Mexico (Contributors: Chris Langton, Roger Burkhart, Nelson Minar, Manor Askenazi, Glen Ropella, Sven Thommesen, Marcus Daniels, Alex Lancaster, Vladimir Joji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shared simulation platform for A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 the development of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d in beta in ‘95, 1.0 release in January ‘97, 1.1 with Win95/NT support April ‘98, 2.0 with Java April ‘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62EE-4649-4998-BF63-570B85E5E6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08F2C6-5DBA-46D4-80E2-155EDED11B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object oriented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library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l/Tk: Scripting language and GUI widgets (transparent to us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Unix and Windows 95/98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438B-B056-4FD2-AD93-51AA27F1AC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29A2D7-559A-4D67-9D9C-F816FBC6C2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2867040" y="3952440"/>
            <a:ext cx="1490760" cy="163692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920"/>
              <a:gd name="textAreaBottom" fmla="*/ 1637280 h 163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30280" y="2241720"/>
            <a:ext cx="476280" cy="44100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2958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600" y="360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79440" y="54727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96880" y="379620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18640" y="5885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60640" y="4788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22360" y="19684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62240" y="2055960"/>
            <a:ext cx="1482840" cy="63468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47960" y="2260440"/>
            <a:ext cx="148284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85880" y="2344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14680" y="3400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56520" y="292788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70280" y="44830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74840" y="49402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0720" y="34164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23920" y="2833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H="1" rot="16200000">
            <a:off x="1825920" y="40986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/>
          <p:nvPr/>
        </p:nvCxnSpPr>
        <p:spPr>
          <a:xfrm flipV="1">
            <a:off x="3300480" y="3324960"/>
            <a:ext cx="622800" cy="29628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4952880" y="1955880"/>
            <a:ext cx="3370320" cy="3962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70240" y="58600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ezbin" descr=""/>
          <p:cNvPicPr/>
          <p:nvPr/>
        </p:nvPicPr>
        <p:blipFill>
          <a:blip r:embed="rId1"/>
          <a:stretch/>
        </p:blipFill>
        <p:spPr>
          <a:xfrm>
            <a:off x="6908760" y="2220840"/>
            <a:ext cx="1231920" cy="836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59520" y="3200400"/>
            <a:ext cx="1136880" cy="102384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996240" y="3219480"/>
            <a:ext cx="1063440" cy="974520"/>
          </a:xfrm>
          <a:prstGeom prst="rect">
            <a:avLst/>
          </a:prstGeom>
          <a:ln w="0">
            <a:noFill/>
          </a:ln>
        </p:spPr>
      </p:pic>
      <p:cxnSp>
        <p:nvCxnSpPr>
          <p:cNvPr id="111" name=""/>
          <p:cNvCxnSpPr>
            <a:stCxn id="94" idx="3"/>
            <a:endCxn id="112" idx="2"/>
          </p:cNvCxnSpPr>
          <p:nvPr/>
        </p:nvCxnSpPr>
        <p:spPr>
          <a:xfrm flipV="1">
            <a:off x="4792680" y="3584160"/>
            <a:ext cx="443520" cy="365760"/>
          </a:xfrm>
          <a:prstGeom prst="bentConnector3">
            <a:avLst>
              <a:gd name="adj1" fmla="val 49796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235480" y="2527200"/>
            <a:ext cx="1317600" cy="5716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5480" y="3251160"/>
            <a:ext cx="1254240" cy="5335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35480" y="4000680"/>
            <a:ext cx="1279800" cy="5713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35480" y="4749840"/>
            <a:ext cx="1279800" cy="57132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2"/>
            <a:endCxn id="94" idx="3"/>
          </p:cNvCxnSpPr>
          <p:nvPr/>
        </p:nvCxnSpPr>
        <p:spPr>
          <a:xfrm flipV="1" rot="10800000">
            <a:off x="4791960" y="2883240"/>
            <a:ext cx="443520" cy="1065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4" idx="2"/>
            <a:endCxn id="94" idx="3"/>
          </p:cNvCxnSpPr>
          <p:nvPr/>
        </p:nvCxnSpPr>
        <p:spPr>
          <a:xfrm rot="10800000">
            <a:off x="4791960" y="3948840"/>
            <a:ext cx="443520" cy="408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"/>
          <p:cNvCxnSpPr>
            <a:stCxn id="115" idx="2"/>
            <a:endCxn id="94" idx="3"/>
          </p:cNvCxnSpPr>
          <p:nvPr/>
        </p:nvCxnSpPr>
        <p:spPr>
          <a:xfrm rot="10800000">
            <a:off x="4791960" y="3948840"/>
            <a:ext cx="443520" cy="11577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19" name="modelprobe" descr=""/>
          <p:cNvPicPr/>
          <p:nvPr/>
        </p:nvPicPr>
        <p:blipFill>
          <a:blip r:embed="rId3"/>
          <a:stretch/>
        </p:blipFill>
        <p:spPr>
          <a:xfrm>
            <a:off x="6883560" y="4419720"/>
            <a:ext cx="1282680" cy="10508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3" idx="4"/>
            <a:endCxn id="108" idx="1"/>
          </p:cNvCxnSpPr>
          <p:nvPr/>
        </p:nvCxnSpPr>
        <p:spPr>
          <a:xfrm flipV="1">
            <a:off x="6409800" y="2639520"/>
            <a:ext cx="499320" cy="244800"/>
          </a:xfrm>
          <a:prstGeom prst="bentConnector3">
            <a:avLst>
              <a:gd name="adj1" fmla="val 6428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"/>
          <p:cNvCxnSpPr>
            <a:stCxn id="112" idx="5"/>
            <a:endCxn id="110" idx="1"/>
          </p:cNvCxnSpPr>
          <p:nvPr/>
        </p:nvCxnSpPr>
        <p:spPr>
          <a:xfrm>
            <a:off x="6489360" y="3451320"/>
            <a:ext cx="506880" cy="255960"/>
          </a:xfrm>
          <a:prstGeom prst="bentConnector3">
            <a:avLst>
              <a:gd name="adj1" fmla="val 4982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09" idx="1"/>
          </p:cNvCxnSpPr>
          <p:nvPr/>
        </p:nvCxnSpPr>
        <p:spPr>
          <a:xfrm flipV="1">
            <a:off x="6515280" y="3712680"/>
            <a:ext cx="444960" cy="502560"/>
          </a:xfrm>
          <a:prstGeom prst="bentConnector3">
            <a:avLst>
              <a:gd name="adj1" fmla="val 5246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"/>
          <p:cNvCxnSpPr>
            <a:stCxn id="119" idx="1"/>
            <a:endCxn id="115" idx="4"/>
          </p:cNvCxnSpPr>
          <p:nvPr/>
        </p:nvCxnSpPr>
        <p:spPr>
          <a:xfrm flipV="1" rot="10800000">
            <a:off x="6371640" y="4944600"/>
            <a:ext cx="511920" cy="162720"/>
          </a:xfrm>
          <a:prstGeom prst="bentConnector3">
            <a:avLst>
              <a:gd name="adj1" fmla="val 35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F0B4-05A5-4924-9028-FB1124192F3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40D582-0EF4-4C5C-9F1B-35094A6A60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5480" y="2424240"/>
            <a:ext cx="2828880" cy="28159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6680" y="3147840"/>
            <a:ext cx="152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42040" y="412920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5720" y="3575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7800" y="545292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049400" y="3879360"/>
            <a:ext cx="254952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B8DB-16FD-460D-8893-9E6E8C2EA7B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1C05C7-9422-4C5D-BC9E-53145766F6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Office</cp:lastModifiedBy>
  <dcterms:modified xsi:type="dcterms:W3CDTF">1999-03-27T03:04:52Z</dcterms:modified>
  <cp:revision>42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