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20E-3CE6-4A7B-A1F8-532A9AA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24B-F333-4265-88B6-9644ECDF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0C1-FBD7-41FF-ADEB-F6900B44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F6B-AE24-47AA-99B7-15EFC3CE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E62-641D-4A45-B446-2AC4B289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F79-E8E3-4707-9335-ABF6738C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34C-5F0D-4245-82C4-01AF9B9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92D-F7B3-4144-9973-72BE1861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E41-06A3-4811-B6F8-8853A68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5AA-A39B-4B0B-97F4-764A891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9E3-F392-4B37-8087-5759188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D046-9D93-41A6-BF86-41E26E76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EEFB-4FF8-4B91-9705-39892FCE6D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D071-0C13-415E-9038-4BA1533B5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6B7-E1C1-4DE2-BA4B-DC0AA4E7927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02077-2880-47D0-97D5-5EE22CC374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E6E-5268-485B-98B4-A03D44CA57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6DD58-CBD0-4128-A30E-D11D17D0DF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4"/>
            <a:endCxn id="106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4"/>
            <a:endCxn id="111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6" idx="4"/>
            <a:endCxn id="110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1" idx="4"/>
            <a:endCxn id="116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586-E374-4699-902C-32A29F3F61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E3743-2312-47EE-AD45-663EF65F04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46C-A2D0-4FDA-A862-807CE42D90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7E6AD-5724-4F98-A6EB-03516BAB38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1D6-85FB-49EC-822C-5BA27A95BD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10870-FD13-4565-BD88-7BA7727111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A49-50D0-443F-A1FE-EB566A98616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0DF9C-7800-4CDA-BD0E-A796177190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to compiler that obj is statically typed to ModelSwarm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8DA-3FCD-496B-A12E-A926894B642A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3FC62-9A8E-4A25-9257-6200C093ED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ther case the object is created “in a memory z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’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612-033C-4D61-A378-0E58C9BEF6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63BF3-E179-4C3C-99CA-FBEA359321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8F1-C71A-46FA-804B-591FA48CF5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F9E0B-C16D-42B7-A799-33038F35FF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66688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BD8-A364-4B52-B713-033AF1E287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94C63-36F8-4B6F-BC46-D55B96B122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04E-193D-443E-BC7A-055CD54743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E98F0-B25C-484C-910F-7946EB1BE1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BE4-8A44-4319-9554-3DFD22633F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4CD83-E9F3-4917-8A32-E3BF49B09C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D36-4270-402A-9BAC-CA2A856659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CEC56-B458-431E-BB6B-11E98523DD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22B-BC2E-48D6-AA7F-AC0226EBF1A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5D722-050A-4068-B3EC-F01BA5678C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1F1-6A35-40C2-A809-5631A4313A3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90FC0-5230-4FBD-AD82-1EFDDA3CA2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E1F-E2D9-4F95-A19D-5104AD04238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B09C0-829F-413E-9538-A26D904514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[self getZone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4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3" name=""/>
          <p:cNvCxnSpPr>
            <a:stCxn id="231" idx="3"/>
            <a:endCxn id="225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4" name=""/>
          <p:cNvCxnSpPr>
            <a:stCxn id="230" idx="3"/>
            <a:endCxn id="226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3BD-A62A-468F-895B-A4E4D35AFF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8A858-88F6-4B9C-9ACC-141677ABBA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2D8-2CE3-4681-A564-1054F5F489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74900-19F2-43F1-9FBF-C82A413D50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967-BF7C-476E-BCE4-1368F6F487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83957-56B3-4C51-9DEC-DC2F37564B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3C5-F18E-4497-9067-FF4580E89A1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B345B-54C6-4AA7-839A-0E998125AB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BC4-BF02-4DA0-B420-8A7B3B59D0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83F22-4525-40AB-9D10-3A78F7AF62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FoodSpac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BEF-E1D2-4180-A8FC-FECB074AF8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7D75A-8C6B-4346-9D7C-BECBCD4BE1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3EC8-0F18-4784-BEED-D0C13B7E1F4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9E8BA-5E4F-46E1-B0C5-6833770240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8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5" idx="0"/>
            <a:endCxn id="312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16" idx="0"/>
            <a:endCxn id="313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7" idx="0"/>
            <a:endCxn id="314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E59-CFE9-4279-967E-6AFF5FCE29A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CB682-F961-4771-B436-AEEA79A0AD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5587-26C1-4FC8-A16D-742CF8A63A9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9EF3C-63D6-4953-BB71-49E793B914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B0D-45FC-4983-B4FA-9037664A9E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997D1-0E1D-4D62-9DF4-E8ADE65F5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4BA-F11D-4F1C-9763-382235D559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65728-9371-4BF9-AF8F-33BBACF5AF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3A7-DB21-4184-A8B9-68B06441878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E23C9-175A-47AB-9625-479B8C9BF2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F79-51DE-4E48-886C-2757D5F224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47DA5-3C28-42C8-8193-A7FED8EEDC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4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" name=""/>
            <p:cNvCxnSpPr>
              <a:stCxn id="360" idx="1"/>
              <a:endCxn id="358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2" name=""/>
            <p:cNvCxnSpPr>
              <a:stCxn id="358" idx="7"/>
              <a:endCxn id="359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3" name=""/>
            <p:cNvCxnSpPr>
              <a:stCxn id="360" idx="6"/>
              <a:endCxn id="359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4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328-58DD-49D5-81EA-A7B7AD40CF0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09321-389C-4502-BB0D-0F0CC8F8B8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endCxn id="386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378-6D13-4108-8008-127A3DE24D9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721FE-E457-4415-B742-70DCC68F55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A48-EE1D-45D2-9727-31BC9EA1EB0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53519F-0B4E-4D35-888F-5827821E5D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2D8-BBF7-4E9B-9016-29B867CB81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A36F8-3A82-4F01-A1DC-EC8629258A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56F-9D42-484B-8947-D7EEA2F33C5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53A85-416D-4377-8456-80E76B998D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7" name=""/>
          <p:cNvCxnSpPr>
            <a:stCxn id="414" idx="1"/>
            <a:endCxn id="418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1" idx="1"/>
            <a:endCxn id="421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1" idx="2"/>
            <a:endCxn id="410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10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7" idx="4"/>
            <a:endCxn id="416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8AC-3270-48FD-92BA-0F759E04A17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C00DB-B948-428E-8B9D-117420B616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2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7" name=""/>
          <p:cNvCxnSpPr>
            <a:stCxn id="465" idx="1"/>
            <a:endCxn id="455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68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4FD-F056-43A9-B7CA-9B25DD9993D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259E1-5ACF-4E5F-8B8B-E0FB0B100A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7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78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79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5A0-0B73-45B5-91FF-7914A7DDDFA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6E2B0-4FA3-4115-A3F5-C668EC63BD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471-D642-4BC9-80DF-F8CC4724B9E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52E71-7FB8-46D0-8088-55A2303101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497" idx="0"/>
            <a:endCxn id="492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7" idx="2"/>
            <a:endCxn id="495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7" idx="2"/>
            <a:endCxn id="499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1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85A-3785-4BB4-A9DE-63B2C9D0BB4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96A6D-3617-4FEB-81E4-BF87E08C8B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lso must execute CREATE_PROBE_DISPLAY mac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ObserverSw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A1C-7EEA-4DC4-8F18-101E2504343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CED46-EA56-4F3F-8AC6-1E406970FD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3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C8B5-A820-4423-99B8-E335E03FE4C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8FB37-2CA7-4B6C-9E9E-FB043662E5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1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3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4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BF7-68A7-4D35-8C5C-71143E91229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F44C7-5B94-436E-9A26-B5C55B810A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7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3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2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58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7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ED1-94D4-48A7-ACD3-8022CB6726CD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82B2F-0AF7-44BB-BF9F-9D87EC0C96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0F55-C25F-4FC5-B49D-C6F195BFF630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C6DD4-A4F0-4972-A34B-7558964C8D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B2A-598C-4D6B-B719-4AEC4C6A08AF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19EBB-97A6-42E3-91EE-675FCDE000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ZGraph class sets up line graph for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gent or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of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th case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 of sequence (Count, Total, Average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(obj or coll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method to fetch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2368440"/>
            <a:ext cx="1371600" cy="998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7166160" y="4201920"/>
            <a:ext cx="939600" cy="1577880"/>
            <a:chOff x="7166160" y="4201920"/>
            <a:chExt cx="939600" cy="1577880"/>
          </a:xfrm>
        </p:grpSpPr>
        <p:sp>
          <p:nvSpPr>
            <p:cNvPr id="704" name=""/>
            <p:cNvSpPr/>
            <p:nvPr/>
          </p:nvSpPr>
          <p:spPr>
            <a:xfrm rot="17683800">
              <a:off x="6835680" y="4842000"/>
              <a:ext cx="1600200" cy="2973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831080" y="444888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24800" y="4758840"/>
              <a:ext cx="213840" cy="21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0000" y="50169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15200" y="5326560"/>
              <a:ext cx="213840" cy="213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9" name=""/>
          <p:cNvCxnSpPr/>
          <p:nvPr/>
        </p:nvCxnSpPr>
        <p:spPr>
          <a:xfrm flipV="1" rot="16200000">
            <a:off x="6110640" y="1971720"/>
            <a:ext cx="846720" cy="1791720"/>
          </a:xfrm>
          <a:prstGeom prst="bentConnector5">
            <a:avLst>
              <a:gd name="adj1" fmla="val -27009"/>
              <a:gd name="adj2" fmla="val 57435"/>
              <a:gd name="adj3" fmla="val 127009"/>
            </a:avLst>
          </a:prstGeom>
          <a:ln w="9360">
            <a:solidFill>
              <a:srgbClr val="f8f8f8"/>
            </a:solidFill>
            <a:miter/>
          </a:ln>
        </p:spPr>
      </p:cxnSp>
      <p:cxnSp>
        <p:nvCxnSpPr>
          <p:cNvPr id="710" name=""/>
          <p:cNvCxnSpPr/>
          <p:nvPr/>
        </p:nvCxnSpPr>
        <p:spPr>
          <a:xfrm rot="5400000">
            <a:off x="5923800" y="3371760"/>
            <a:ext cx="305280" cy="1486440"/>
          </a:xfrm>
          <a:prstGeom prst="bentConnector3">
            <a:avLst>
              <a:gd name="adj1" fmla="val -7497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6019920" y="4044960"/>
            <a:ext cx="1523880" cy="984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4" idx="1"/>
            <a:endCxn id="711" idx="4"/>
          </p:cNvCxnSpPr>
          <p:nvPr/>
        </p:nvCxnSpPr>
        <p:spPr>
          <a:xfrm flipV="1" rot="16200000">
            <a:off x="6697080" y="5112360"/>
            <a:ext cx="687960" cy="519840"/>
          </a:xfrm>
          <a:prstGeom prst="bentConnector3">
            <a:avLst>
              <a:gd name="adj1" fmla="val -4246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713" name=""/>
          <p:cNvSpPr/>
          <p:nvPr/>
        </p:nvSpPr>
        <p:spPr>
          <a:xfrm>
            <a:off x="5180400" y="5486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800600" y="40384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911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52880" y="44949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2096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029200" y="236232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105520" y="2666160"/>
            <a:ext cx="685800" cy="30492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13" idx="2"/>
            <a:endCxn id="704" idx="2"/>
          </p:cNvCxnSpPr>
          <p:nvPr/>
        </p:nvCxnSpPr>
        <p:spPr>
          <a:xfrm flipH="1" flipV="1" rot="5400000">
            <a:off x="6392520" y="4565880"/>
            <a:ext cx="891360" cy="1864440"/>
          </a:xfrm>
          <a:prstGeom prst="curvedConnector5">
            <a:avLst>
              <a:gd name="adj1" fmla="val -25656"/>
              <a:gd name="adj2" fmla="val 65102"/>
              <a:gd name="adj3" fmla="val -256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B89-71C4-413E-AC4A-BFBFE5754E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E7603-CEB0-462E-AA00-5C4F837DC2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 C program do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started at X=$1 Y = 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i=100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Select Random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{-1,0,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xPos +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worldSizeX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x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yPos =yPos +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 worldSizeY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yPos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lbertus Medium"/>
              </a:rPr>
              <a:t>“I moved to X=$1  Y=$2”, $1=xPos, $2=y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Extra Bold"/>
              </a:rPr>
              <a:t>En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42C-4B7B-4678-AA03-8F1A0682AF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A7EA6-2F8F-416F-B775-7BAC67726B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 and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5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5CD-D137-4ECF-BACF-F7E77B7B67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3E210-4867-4526-ADF2-F57FCEEB7D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696-DB31-471C-823E-B8B3BBA6E8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6E00A-74BB-46C0-8659-3AD3993DAA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99F-7117-4B2F-A6D2-1FA1270875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0BCD4-5B10-4967-8025-C97F108594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Benedikt Stefansson</cp:lastModifiedBy>
  <cp:lastPrinted>1998-03-18T02:24:41Z</cp:lastPrinted>
  <dcterms:modified xsi:type="dcterms:W3CDTF">1998-03-19T09:21:11Z</dcterms:modified>
  <cp:revision>28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