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2F1-98FE-4367-90D8-EB751432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097-2638-4CC3-9F6A-B1796B1C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5C7-650F-4A74-84DC-B7E2714E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964-A571-4D55-B642-4CF960BA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B8C-C838-493B-A2BE-3A36249A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E20-3BA7-421F-B644-1F478263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1D6-FEDA-44C8-BCB0-78C281C6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79C-A778-425D-A363-EC01D7D5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4B9-A874-45BB-AA92-48350D44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FA5-453A-492B-B873-491BCE48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791-4322-4F01-8123-0C86CD38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9A5-E49E-4316-913A-F9CF8AB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A36A-C376-45A1-9637-0F47506809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7F1D-1CC5-4756-BB77-FF3A59AB2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8E7-ACE7-4B02-A07F-FB95C873B3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70932-D01B-4606-9EEF-BA70942A79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35A-250A-4304-BB4B-FEBB428D86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821AA-3F11-4B4F-9E1E-0F4BAB374A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C30-2152-49E8-A953-30448561FC3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D5DF8-55B0-49B4-B204-650810E747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scheduling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187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4"/>
            <a:endCxn id="185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5" idx="4"/>
            <a:endCxn id="175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3" idx="1"/>
            <a:endCxn id="176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84" idx="3"/>
            <a:endCxn id="182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96" idx="1"/>
            <a:endCxn id="192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197" idx="3"/>
            <a:endCxn id="198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D4B-331C-4234-BAEF-906CA4D98F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70176-4D0C-43C2-AAEE-3BBE923F6B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7" idx="2"/>
            <a:endCxn id="252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659-55C3-4743-9A2E-4155D63A93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C5EFF-38A1-4B6E-9C45-680CD5BC4C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1"/>
            <a:endCxn id="276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6" idx="7"/>
            <a:endCxn id="277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stCxn id="278" idx="6"/>
            <a:endCxn id="277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sort of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6B4-8530-4BD3-9793-174977F425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3159E-E238-45AA-995C-36BED008D4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s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C9B-59B6-436A-B7B0-50F244977D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DA7D8-FE70-49DD-81E5-CB0C7ABC5B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23600" y="2212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 c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22880" y="2651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b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33320" y="219384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wh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0" idx="2"/>
            <a:endCxn id="304" idx="7"/>
          </p:cNvCxnSpPr>
          <p:nvPr/>
        </p:nvCxnSpPr>
        <p:spPr>
          <a:xfrm rot="5400000">
            <a:off x="5163480" y="3412800"/>
            <a:ext cx="1119960" cy="51048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0" idx="2"/>
            <a:endCxn id="305" idx="0"/>
          </p:cNvCxnSpPr>
          <p:nvPr/>
        </p:nvCxnSpPr>
        <p:spPr>
          <a:xfrm flipH="1" rot="16200000">
            <a:off x="5529240" y="3557160"/>
            <a:ext cx="1083240" cy="185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0" idx="2"/>
            <a:endCxn id="306" idx="0"/>
          </p:cNvCxnSpPr>
          <p:nvPr/>
        </p:nvCxnSpPr>
        <p:spPr>
          <a:xfrm flipH="1" rot="16200000">
            <a:off x="5899680" y="3186000"/>
            <a:ext cx="1083240" cy="927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0" idx="2"/>
            <a:endCxn id="313" idx="0"/>
          </p:cNvCxnSpPr>
          <p:nvPr/>
        </p:nvCxnSpPr>
        <p:spPr>
          <a:xfrm flipH="1" rot="16200000">
            <a:off x="6309360" y="2776320"/>
            <a:ext cx="1083240" cy="1747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" name=""/>
          <p:cNvCxnSpPr>
            <a:stCxn id="302" idx="2"/>
            <a:endCxn id="308" idx="0"/>
          </p:cNvCxnSpPr>
          <p:nvPr/>
        </p:nvCxnSpPr>
        <p:spPr>
          <a:xfrm rot="5400000">
            <a:off x="7480800" y="2932920"/>
            <a:ext cx="682920" cy="11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3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62400" y="264780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3B5-0F8A-42C7-9064-2C5BC1FE57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B1213-2851-432F-B91C-B57DD90DE0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4" idx="2"/>
            <a:endCxn id="329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7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42F-6FC5-41DE-A634-D87978ECE7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D2715-79C7-4F47-99E1-766C830C85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ropped using a notion of 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extension of same principle can also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EA0-33A6-4BB6-B72C-A74FDA3230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009FE-A901-40DF-84B6-9A30C42889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41D-F681-4F4C-A475-A364F77D586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2C54C-F94B-4567-931E-EE05B0CDF1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CEC-1801-4AB6-A6DC-DAF70D3FEB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1E071-F64D-4FB9-BDB4-A7845DF7A2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probe map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0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936-79A7-4A8E-BBF2-FC81522E4A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A3B7D-6B6D-4C68-86C9-124CB03816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2" idx="1"/>
            <a:endCxn id="385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3" idx="3"/>
            <a:endCxn id="384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1"/>
            <a:endCxn id="382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2"/>
            <a:endCxn id="383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997-1C7F-40C7-8122-6EB4349CB6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15DE0-9E37-42E3-A296-14F32D4718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04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5FE1-FDC1-4696-861F-9F0A94F3E7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12B55-1123-46D2-A14C-B71F611606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3"/>
            <a:endCxn id="413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4" idx="1"/>
            <a:endCxn id="410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5" idx="2"/>
            <a:endCxn id="416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6" idx="2"/>
            <a:endCxn id="414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1" name=""/>
          <p:cNvCxnSpPr>
            <a:stCxn id="422" idx="0"/>
            <a:endCxn id="411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2" name=""/>
          <p:cNvCxnSpPr>
            <a:stCxn id="421" idx="0"/>
            <a:endCxn id="409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3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3" idx="0"/>
            <a:endCxn id="420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7F8-FEF1-418E-86C0-448B0CDD14D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EBD5B-3B2E-49C4-8109-E20A67272C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Rhapsody 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reator and destructor functions as in C++, nor overloading of functions or multiple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1A2-3C81-4E60-8BFF-314FC9103A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42251-2700-421B-987C-517BBFD298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4"/>
            <a:endCxn id="445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3" idx="4"/>
            <a:endCxn id="444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39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endCxn id="438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3" idx="0"/>
            <a:endCxn id="440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5" idx="2"/>
            <a:endCxn id="441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1"/>
            <a:endCxn id="449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7" idx="1"/>
            <a:endCxn id="449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7AA-A54D-415C-9313-8A042B1E35B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12687-7178-4B24-B896-1C74B31E97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@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ons of instance variabl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ssage: (type) 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2720" y="1981080"/>
            <a:ext cx="404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9A2-AB50-4167-8B0C-5F491C36CB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4153F-CEEF-4556-A29F-FFECD8B08F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 (type)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F698-9A60-4ECA-84F4-1D24297093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11E37-D95A-4D72-8828-6928AAD1AF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C98-81A2-4F1A-BC49-50C31C1531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65F0A-0F68-4FA3-BC33-8935AAFD68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D5A-8FC9-4EE6-963E-16D12659DB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02828-D48C-4A87-AF9B-AE7340FB60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artype Iva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6E43-B073-44A7-9C1A-0DFB53A0710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AD4BC-827D-4DF8-AEE7-CB7E3FA488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var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vartype) ar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 etc.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returning no value must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0A4-6463-4118-BA13-849F281A820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44CF3-0BB9-43FC-BDAF-CFFD62DE37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 name: (type) arg1 argName2: (type) arg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arg1,(type) arg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turn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A63-7748-46A4-BF5C-C1F39738349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62F4B-9DC4-4823-A163-3D012714A6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xample of C vs.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1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rand_move(int i)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mp_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mp_loc=get_rand_lo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val[tmp_loc]!=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location[i]]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[tmp_loc]=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8560" y="1981080"/>
            <a:ext cx="390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rand_move: p {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lo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=[self getRand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while([world at: loc]!=ni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 moveTo: loc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02A-A3F3-483F-A890-3EB2F699DCD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52F47-F3FC-400D-B6C7-77F086A90F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A99-CEC4-48DA-8D48-01905F8CC4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6372B-A283-4EA4-A2DC-46E4A6383D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4E3-B53C-49D7-9B9F-5777CC7297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807FA-7081-4683-B591-F39BC8C9DF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ed in 1994 by Chris Langton at Santa Fe Institute in New Mexico (Contributors: Chris Langton, Roger Burkhart, Nelson Minar, Manor Askenazi, Glen Ropella, Sven Thommesen, Marcus Daniels, Alex Lancaster, Irene L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: create a common simulation platform for A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sed in beta in 1995, 1.0 release in January 1997, 1.1 with Win95/NT support : April 19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: Windows 95/NT version, (Rhapsody?), other GUI implementations, client-server approach, paralel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FA3-1AE8-44F1-859D-46FCCF74B0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0B596-DAAC-4D94-AB22-DEEAAF87F9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/Tcl: Scripting language and GUI widgets. GUI is now independent of this implementation and may be substituted by other widget sets in near fut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X-Windows/Unix and Windows 95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759-EB47-4BFE-88CB-0B9746B230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AB3D3-C1E1-4800-86A5-DD1674DC2B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endCxn id="53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0AB-1568-4308-A19B-B669C037DC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0809A-39C0-49CB-9A14-2448FD8E2B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5160" y="2550960"/>
            <a:ext cx="2689200" cy="268920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93440" y="3198960"/>
            <a:ext cx="135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40520" y="42688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11600" y="36892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549108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163520" y="3879360"/>
            <a:ext cx="2435400" cy="8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308-3D80-4A42-9B9C-5C59F6A506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C5DEA-F667-434B-B09A-AF34F1C4F0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CBB2-E9C8-4914-A06F-B4340BF996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A8E2E-D859-4E7C-A573-D74AFDEF61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’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7" idx="4"/>
            <a:endCxn id="126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7" idx="4"/>
            <a:endCxn id="125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5280" y="2521080"/>
            <a:ext cx="83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8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3E4-7EFD-4A77-A588-F93712C981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B22A7-B199-4604-A5B0-58EC496B5E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Benedikt Stefansson</cp:lastModifiedBy>
  <dcterms:modified xsi:type="dcterms:W3CDTF">1998-03-19T09:05:11Z</dcterms:modified>
  <cp:revision>24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