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758-DB96-493C-8B72-2830EEFA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E10-DD6A-40E5-AA14-DDF50D16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0BF-FBD3-44D1-BA5D-3AB778F4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C0B-CBCB-4468-AA0D-EEE3389E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A3-7C77-4311-B347-C1DC9CDA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7C8-F3B4-460D-AA33-DC8AF26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5E4-E9DD-4ABF-A66D-6AF6BB2B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315-0F57-4C4C-9D65-E0CC8F8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6E8-060A-4682-B4F0-05EF768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4C66-0C78-4EFE-B247-83275C32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44E-7C3E-40EC-BC6F-9A02D49C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E94-6DBF-46A0-BC52-2CFFFBF4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985-29E8-4A80-B527-3566069780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4348-BDD1-404D-A00F-EB6725B3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0AE-3567-4D5C-8366-57F518DA7A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11217-F31C-408E-8E04-888013E05D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20088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73380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8E3-7FE9-454E-A4DE-B62DCFDBC3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98204-DA2A-4BEA-ACEB-FA1E7D708B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475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, skip f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8769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5334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38098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29D-1B0F-4DB1-BD7A-64B6B8B5DD6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37D70-A63E-4721-AEA1-4F058188B3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C0A-A04E-4B23-841C-A96C7B3AAB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ECE5D-1A17-464F-88EF-86BF41F95E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274-9A95-42ED-8CEE-9F9108D122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6C944-39E7-4F99-A495-C0F92740E2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AA70-600A-4CEE-AB78-7A6A4D78C2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5474C-9AD7-476E-BC2E-0B364824C6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B69-2C5A-40CF-A4FA-F8C7DA21A94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A3049-37AB-4190-A6C7-40602FD091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000" y="220968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209680"/>
            <a:ext cx="312444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AED-22A3-415C-A45F-40A7A69BD3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B5D7F-C2E3-4893-AC05-890BB31C6F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934-64B6-43DD-8B4B-5ED6B2BF0A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412B1-4831-4FD0-9E81-CA439BF1A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205740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 flipH="1">
            <a:off x="2018880" y="2705040"/>
            <a:ext cx="388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61E-D271-4E8E-95AA-3DBEEB252D8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5674E-7100-41AF-AF45-12316D08E6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302A-11F5-49D6-B358-E8AB496EA3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DB86-A017-45AD-A53F-4007209602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7B5-4018-4CD2-8736-597AE1470B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3AC9F-0452-48F9-9B09-78FFDCDFB9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B30-FEDB-4F75-A2EB-CC9D4793AB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E42C2-E268-45F0-B4CC-5C8477A4F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823B-ED24-440B-9F2D-A81B24B11C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AEC2A-CE0C-45FD-AF2B-0291B532DD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0AD-3A27-4FA2-BCBF-3D3D28CEC7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F4DCE-2B0B-4A68-B44F-80C69461ED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4DC-4A30-44C8-B47B-F084AFDCCF12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BB51B-45A8-4739-A7F7-E9B49D5A47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1D8E-EE42-4B97-B134-AA7F0F412B4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9D804-A016-4020-A2C1-DF7751BFCD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BBB-55BC-41B1-8955-A4C4476C2F7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94C01-A87B-4A6F-97A7-2FED72CC1C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DF3-F41B-48E8-8B91-E2A9A097AA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6315C-E50B-4FCC-BEDB-8E726F9CE7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C467-722E-4E57-B203-F389F53993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E1DB3-A265-4DD4-9B9E-6E9FB64692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C1B-E6FC-44EA-90AC-8F5A809F90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9E21C-FFAD-4265-82B3-E4F1F41CA3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wt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95F-87DA-4ED0-BD3A-56BDA11D3B1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1234-3F90-42EB-A646-82D68C86D5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40B-907F-48E7-8368-8D978A75AD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D79EB-8C71-4C6F-A58C-DD241673A7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s several objects to gather and display data on line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591080" y="2038320"/>
            <a:ext cx="4124160" cy="3543120"/>
            <a:chOff x="4591080" y="2038320"/>
            <a:chExt cx="4124160" cy="3543120"/>
          </a:xfrm>
        </p:grpSpPr>
        <p:sp>
          <p:nvSpPr>
            <p:cNvPr id="448" name=""/>
            <p:cNvSpPr/>
            <p:nvPr/>
          </p:nvSpPr>
          <p:spPr>
            <a:xfrm>
              <a:off x="5281560" y="3975120"/>
              <a:ext cx="1052640" cy="671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ver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91080" y="2908080"/>
              <a:ext cx="1052280" cy="671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Gra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31040" y="3975120"/>
              <a:ext cx="1050840" cy="672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B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9240" y="2038320"/>
              <a:ext cx="1052280" cy="669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62600" y="3970080"/>
              <a:ext cx="1052640" cy="669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trop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31040" y="4908240"/>
              <a:ext cx="1050840" cy="6732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19880" y="2869920"/>
              <a:ext cx="1052280" cy="67176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54" idx="2"/>
              <a:endCxn id="448" idx="0"/>
            </p:cNvCxnSpPr>
            <p:nvPr/>
          </p:nvCxnSpPr>
          <p:spPr>
            <a:xfrm rot="5400000">
              <a:off x="6160320" y="3189240"/>
              <a:ext cx="434160" cy="1139040"/>
            </a:xfrm>
            <a:prstGeom prst="bentConnector3">
              <a:avLst>
                <a:gd name="adj1" fmla="val 4979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54" idx="2"/>
              <a:endCxn id="452" idx="0"/>
            </p:cNvCxnSpPr>
            <p:nvPr/>
          </p:nvCxnSpPr>
          <p:spPr>
            <a:xfrm flipH="1" rot="16200000">
              <a:off x="7353360" y="3134160"/>
              <a:ext cx="429120" cy="124380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4" idx="2"/>
              <a:endCxn id="450" idx="0"/>
            </p:cNvCxnSpPr>
            <p:nvPr/>
          </p:nvCxnSpPr>
          <p:spPr>
            <a:xfrm>
              <a:off x="6946920" y="3541680"/>
              <a:ext cx="10080" cy="43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8" name=""/>
            <p:cNvCxnSpPr>
              <a:stCxn id="450" idx="2"/>
              <a:endCxn id="453" idx="0"/>
            </p:cNvCxnSpPr>
            <p:nvPr/>
          </p:nvCxnSpPr>
          <p:spPr>
            <a:xfrm>
              <a:off x="6955920" y="4647600"/>
              <a:ext cx="1080" cy="26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9" name=""/>
            <p:cNvCxnSpPr>
              <a:stCxn id="451" idx="1"/>
              <a:endCxn id="449" idx="0"/>
            </p:cNvCxnSpPr>
            <p:nvPr/>
          </p:nvCxnSpPr>
          <p:spPr>
            <a:xfrm flipV="1" rot="10800000">
              <a:off x="5117400" y="2372760"/>
              <a:ext cx="411840" cy="535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0" name=""/>
            <p:cNvCxnSpPr>
              <a:stCxn id="451" idx="3"/>
              <a:endCxn id="454" idx="0"/>
            </p:cNvCxnSpPr>
            <p:nvPr/>
          </p:nvCxnSpPr>
          <p:spPr>
            <a:xfrm>
              <a:off x="6581160" y="2373120"/>
              <a:ext cx="366120" cy="497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F1A-E6C7-46B4-9AA5-6F232B96A9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4EDAD-D279-455B-92C5-605985BD22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010-6DFB-4D42-9264-5EC7207AA92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D679-1671-4352-8B30-B747072D39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stCxn id="466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7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3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0DE-0B1D-4069-8B0D-A46A37F245A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1C4C8-6EEC-4722-90CA-BDCA2AB10E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BE2-31C9-41F4-AD4D-B462A4F63FB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CFE34-705D-4B8A-B9D7-5C2F2437A8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F39-7F1C-4A07-80A4-D26FFE2E2B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77B2E-CE83-4C4D-9F14-19413C5A8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B1A-7379-488D-9ED1-7E97D23D29AB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C59E7-9BC0-4F7C-82AD-8C353B2F22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3" idx="1"/>
            <a:endCxn id="497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7" idx="2"/>
            <a:endCxn id="492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0" idx="2"/>
            <a:endCxn id="492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028-F73F-45FF-958F-DA33003B29B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428FE-EF18-4117-9AB2-B31670712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7" name=""/>
          <p:cNvCxnSpPr>
            <a:stCxn id="508" idx="3"/>
            <a:endCxn id="509" idx="2"/>
          </p:cNvCxnSpPr>
          <p:nvPr/>
        </p:nvCxnSpPr>
        <p:spPr>
          <a:xfrm flipV="1">
            <a:off x="4723920" y="2437920"/>
            <a:ext cx="72468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0" name=""/>
          <p:cNvCxnSpPr>
            <a:stCxn id="508" idx="3"/>
            <a:endCxn id="511" idx="2"/>
          </p:cNvCxnSpPr>
          <p:nvPr/>
        </p:nvCxnSpPr>
        <p:spPr>
          <a:xfrm flipV="1">
            <a:off x="4724280" y="2437920"/>
            <a:ext cx="2020320" cy="53424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692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8600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3" idx="2"/>
            <a:endCxn id="508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08" idx="1"/>
            <a:endCxn id="514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8" idx="3"/>
            <a:endCxn id="515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4" idx="1"/>
            <a:endCxn id="516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4" idx="3"/>
            <a:endCxn id="517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7" idx="2"/>
            <a:endCxn id="518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941-800A-4151-AE8B-FE0120344E0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D9C17-BDDA-4C97-8434-215B37C32D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6" name=""/>
          <p:cNvCxnSpPr>
            <a:stCxn id="527" idx="3"/>
            <a:endCxn id="528" idx="2"/>
          </p:cNvCxnSpPr>
          <p:nvPr/>
        </p:nvCxnSpPr>
        <p:spPr>
          <a:xfrm flipV="1">
            <a:off x="6326280" y="2569320"/>
            <a:ext cx="48816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29" name=""/>
          <p:cNvCxnSpPr>
            <a:stCxn id="527" idx="3"/>
            <a:endCxn id="530" idx="2"/>
          </p:cNvCxnSpPr>
          <p:nvPr/>
        </p:nvCxnSpPr>
        <p:spPr>
          <a:xfrm flipV="1">
            <a:off x="6326280" y="2569320"/>
            <a:ext cx="1365840" cy="361080"/>
          </a:xfrm>
          <a:prstGeom prst="curvedConnector2">
            <a:avLst/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1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2780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304040" y="205740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73520" y="205740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1" idx="2"/>
            <a:endCxn id="527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1"/>
            <a:endCxn id="532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7" idx="3"/>
            <a:endCxn id="533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2" idx="1"/>
            <a:endCxn id="534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2" idx="3"/>
            <a:endCxn id="535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5" idx="2"/>
            <a:endCxn id="536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DF4-5A59-4E33-8DBD-C667B13494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1E9D5-CC31-42A5-A5F4-24DFC05FDD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643-2513-4A30-AC72-90974752B97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5B72-F634-4546-B159-DAF880DF1E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37B-4606-4AA9-B12E-18F2DE599273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47132-8CF3-4CB8-A638-743DF67BC9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A69-9DBA-4E79-A684-5642468E738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2F969-6572-4A68-85F0-BC3CDC3461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B78-2E17-4D25-80CA-5B9C36B7275F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D74BE-436C-479F-9A5D-62E567E543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F8D-33FD-449C-8853-EDBBC263A250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82FB7-4FE8-418D-9C07-8EF1F7730F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GUI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"/>
          <p:cNvCxnSpPr>
            <a:stCxn id="561" idx="3"/>
            <a:endCxn id="564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5" name=""/>
          <p:cNvCxnSpPr>
            <a:stCxn id="561" idx="2"/>
            <a:endCxn id="566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T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66" idx="2"/>
            <a:endCxn id="567" idx="0"/>
          </p:cNvCxnSpPr>
          <p:nvPr/>
        </p:nvCxnSpPr>
        <p:spPr>
          <a:xfrm>
            <a:off x="6017760" y="3979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FB4-537C-43EA-8CD0-168EE4780E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7C1F0-E60E-430A-BE09-0E5E1B3692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B07-916F-4F02-B7ED-AB41EF597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AE5D6-765C-48D3-9E0D-F0C5613F43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E5B-5E17-487C-95D8-2819ED82EFEB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CD95A-622E-4CF3-85E8-D4C7F7B7FE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7560-97CB-40AB-B111-4454C2FE3F90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CEC75-FD10-4920-BDB5-49F30E6EE9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AD5-4790-4D01-B558-DF35E7C941C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234D4-4E96-48A0-A8D1-6AE8C284A2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8ED-F9FF-4EEA-8598-1E84FBAA5448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0186A-C194-4951-AC2A-99C47F0FD7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Benedikt Stefansson</cp:lastModifiedBy>
  <cp:lastPrinted>1998-03-19T09:02:27Z</cp:lastPrinted>
  <dcterms:modified xsi:type="dcterms:W3CDTF">1998-03-19T09:23:50Z</dcterms:modified>
  <cp:revision>13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