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E9D-843B-431B-8BD3-F1D442BD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696-160E-4699-B935-48FF2219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B6B-CC97-4548-B202-F4453F40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28F-B1C8-45C2-8504-19F8EBA3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8111-5EFF-4558-B7BC-D0868463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7790-361B-49F7-A49E-853FE68C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B033-DF6C-4E62-9BAB-0C189D88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980B-BA72-4AD2-B13A-6486F359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39FB-BD6E-4E0C-8B2C-ADB58262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F68F-B4AC-4EF3-AA39-5F095E49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7B8D-4595-46E1-9AA0-0987686F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64F-41F4-4485-B564-27684157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990B-B9E3-47B0-8FC0-302E3DB5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EE28-C142-471B-8EA0-6B2C8C75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2439-575F-4406-9279-993E4D3C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B00C-1352-44E4-AD84-A22BEA4F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1F64-0244-403C-BB56-92018FD5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DF58-B885-452A-A812-BD20010A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1E60-A045-460C-BFC4-D05AE266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DACD-2366-4E61-A9A1-2CB21619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407-7D83-4000-9DAD-8B1A0A3B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A5E-DE30-47F6-B46C-613D71D8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8821-CE1A-4E88-A6F9-868F6DCE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DE2-2258-48E5-A01A-6393887D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35A1-5DC9-43AE-BFF6-381FCD701038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7FC5-B49D-46A6-AB9C-3DCD535B6F5E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plomverteidig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hem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Untersuchung zur Realisierbarkeit einer technologieneutral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apping-Schicht für den Datenaustausch am Beispiel einer Anwendu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um medizinischen Formulardruck als integrativer Bestandteil e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lectronic Health Record (EH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lmenau, den 27.01.2003        *        25973        *        Torsten Ku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2 Auszug des E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ERD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5832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3 Kommunikationsmod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Resmedicinae_2Tie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4 Klassendiagram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Gesamtmodell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5. Der Prototyp: </a:t>
            </a:r>
            <a:r>
              <a:rPr b="0" i="1" lang="de-DE" sz="4400" spc="-1" strike="noStrike">
                <a:solidFill>
                  <a:srgbClr val="ffcc66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ReForm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 Zusammenfass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essere Strukturierung von Prgrammcode mit Softwaremu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schiedene Persistenzmechanismen garantieren ein sicheres Arb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teile verteilter Anwendungen werden für die Verwaltung der Patientenkarteien genutz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kombiniert Persistenz und Kommunikation in einer Schic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ransparent, flexibel erweit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1 Ausbli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llständige Implementierung der entworfenen Mod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s Formulardesigners für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gleichartigen Codes aus den Fat-Clients und Entwicklung eines Drei-Schichten-Mod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elche Fragen sind offen geblieb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Question1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2017800" cy="2200320"/>
          </a:xfrm>
          <a:prstGeom prst="rect">
            <a:avLst/>
          </a:prstGeom>
          <a:ln w="0">
            <a:noFill/>
          </a:ln>
        </p:spPr>
      </p:pic>
      <p:pic>
        <p:nvPicPr>
          <p:cNvPr id="146" name="Question2" descr=""/>
          <p:cNvPicPr/>
          <p:nvPr/>
        </p:nvPicPr>
        <p:blipFill>
          <a:blip r:embed="rId2"/>
          <a:stretch/>
        </p:blipFill>
        <p:spPr>
          <a:xfrm>
            <a:off x="6095880" y="2590920"/>
            <a:ext cx="2816280" cy="3805200"/>
          </a:xfrm>
          <a:prstGeom prst="rect">
            <a:avLst/>
          </a:prstGeom>
          <a:ln w="0">
            <a:noFill/>
          </a:ln>
        </p:spPr>
      </p:pic>
      <p:pic>
        <p:nvPicPr>
          <p:cNvPr id="147" name="Question3" descr=""/>
          <p:cNvPicPr/>
          <p:nvPr/>
        </p:nvPicPr>
        <p:blipFill>
          <a:blip r:embed="rId3"/>
          <a:stretch/>
        </p:blipFill>
        <p:spPr>
          <a:xfrm>
            <a:off x="1143000" y="3505320"/>
            <a:ext cx="1612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smedicinae_3Tier" descr=""/>
          <p:cNvPicPr/>
          <p:nvPr/>
        </p:nvPicPr>
        <p:blipFill>
          <a:blip r:embed="rId1"/>
          <a:stretch/>
        </p:blipFill>
        <p:spPr>
          <a:xfrm>
            <a:off x="378000" y="380880"/>
            <a:ext cx="4620960" cy="609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15400" y="803160"/>
            <a:ext cx="30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rei-Schichten-Mod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Inha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orstellung des Projektes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otivation und Zielstell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lementare Architekturen (Softwaremus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gener Ansatz (Modelle und Umsetzu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Prototyp: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Zusammenfassung und Ausb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 Res Medicina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zeichnung aus dem Lateinisch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u deutsch: „Sache der Medizi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ponentenbasiertes Open Source 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nt der Verwaltung, Darstellung, Auswertung und sicheren Verteilung von Patienten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imäre Zielgruppe: Ärzte, ArzthelferInnen, Pati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forderungsanalyse parallel zur Realisierungsphas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=&gt; Extreme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eines Framewor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1 Eine Einsatzmöglichke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bination von Handheld / Tablet PC mit dem Krankenb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rtsunabhängi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ringerter Verwaltungsaufwand für die Ärz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otwendigkeit eines Sicherheits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nwendungen2_Krankenhaus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05320" cy="2732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1752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1560" y="1752480"/>
            <a:ext cx="37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richtungsinterne Nutz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 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 einziger Persistenzmechanismus ist unzureichend für die Datenspeicherung moderner Software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munikation zwischen den einzelnen Modulen 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notwendig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en von externen Services (OMG HDTF: PIDS, CIAS, CO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sergebnisse sollen abstrahierbar und in das Framework aufnehmbars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1 Aufgabenstell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r transparenten Schicht, um Domain Model und Backend möglichst unabhängig voneinander zu gestalt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asis: Softwarem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 von Kommunikationsparadigmen und Finden einer allgemeinen Möglichkeit, diese transparent zu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esten der umgesetzten Modelle anhand eines zu erstellenden Prototypen zum elektronischen Formulardru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3. Zwei wesentliche Softwaremuster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                          </a:t>
            </a: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für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Persisten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DataMaper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429000" cy="3535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412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Kommunik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248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Ma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6248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Transfer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DTO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114800" cy="3503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029200"/>
            <a:ext cx="2590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2362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4191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236196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495680"/>
            <a:ext cx="586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153280" y="3733920"/>
            <a:ext cx="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 Eigener Ansat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51520" y="2125800"/>
            <a:ext cx="36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66720" y="1904760"/>
            <a:ext cx="4496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odel-View-Controller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zur Präsentation der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omain Mode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Electronic Health Record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)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gener Datentyp für die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e einzige Schicht für die transparente Datensicherung und Kommunik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Persistenzschicht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Back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LogischeArchitektur_Resmedicinae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26120" cy="4648320"/>
          </a:xfrm>
          <a:prstGeom prst="rect">
            <a:avLst/>
          </a:prstGeom>
          <a:ln w="0">
            <a:noFill/>
          </a:ln>
        </p:spPr>
      </p:pic>
      <p:pic>
        <p:nvPicPr>
          <p:cNvPr id="123" name="DataMaper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6095880" y="45720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040" y="5105520"/>
            <a:ext cx="2895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495680"/>
            <a:ext cx="1752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28951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57913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1 Dateien und Tabellen</a:t>
            </a:r>
            <a:br>
              <a:rPr sz="4400"/>
            </a:br>
            <a:r>
              <a:rPr b="0" lang="de-DE" sz="1800" spc="-1" strike="noStrike">
                <a:solidFill>
                  <a:srgbClr val="ffcc66"/>
                </a:solidFill>
                <a:latin typeface="Arial"/>
              </a:rPr>
              <a:t>Zwei entworfene und umgesetzte Persistenzmechanismen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XML2DB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763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07:39:32Z</dcterms:created>
  <dc:creator>zonie</dc:creator>
  <dc:description/>
  <dc:language>en-US</dc:language>
  <cp:lastModifiedBy>zonie</cp:lastModifiedBy>
  <dcterms:modified xsi:type="dcterms:W3CDTF">2003-01-22T14:39:41Z</dcterms:modified>
  <cp:revision>130</cp:revision>
  <dc:subject/>
  <dc:title>Diplomverteidigung</dc:title>
</cp:coreProperties>
</file>