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714668"/>
        <c:axId val="87099380"/>
      </c:barChart>
      <c:catAx>
        <c:axId val="477146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99380"/>
        <c:crosses val="autoZero"/>
        <c:auto val="1"/>
        <c:lblAlgn val="ctr"/>
        <c:lblOffset val="100"/>
        <c:noMultiLvlLbl val="0"/>
      </c:catAx>
      <c:valAx>
        <c:axId val="870993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146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C2D5-2854-41AF-8870-3F8B0D2D9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278C-6D85-410A-BAB4-28910312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70C5-F300-4BE2-ABDE-DB0176F5F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F951-1C80-4BFB-8E5E-D4A658E5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0E8B-7BC2-4460-9A18-F0932440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B005-CB09-49C1-BF61-A887ECC9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819D-BEBF-4161-ACFE-D38D595A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E813-D3CB-4E23-856A-D6A8ABB8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5255-A329-4110-B4EE-F1EBD7F1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65CA-6227-481D-8177-B3F8851E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36F4-11E0-4111-A013-E9243D15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ED74-2D33-44DD-95C1-919989D4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11A58-5395-4B4C-9B39-5FC82461AA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