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74480"/>
        <c:axId val="18727843"/>
      </c:barChart>
      <c:catAx>
        <c:axId val="71374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27843"/>
        <c:crosses val="autoZero"/>
        <c:auto val="1"/>
        <c:lblAlgn val="ctr"/>
        <c:lblOffset val="100"/>
        <c:noMultiLvlLbl val="0"/>
      </c:catAx>
      <c:valAx>
        <c:axId val="18727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74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DE2-A8DC-4D4B-AD28-5CD49D8A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D8E-A8C4-445E-9E00-8F6E58BE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164-579D-40EB-A607-46822749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C9A-19D3-41AA-9A2D-B35648E9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842-D1D3-4D1B-8A76-AF50EA71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4F0-2A9D-4EC7-B3DF-57D653E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2BB-680E-4C71-AF1C-6D3239BC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65C-79E4-4C91-95C8-DE15A486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6CF-886B-4443-B552-8555203E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D6B-744C-4BF2-B057-CAC28BD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319-F737-433E-9348-5BF8F2D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21D-B6CD-43F9-875A-E6F2873E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FFAC6-FEFB-4710-83EC-FAD6772E73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