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37620"/>
        <c:axId val="69300103"/>
      </c:barChart>
      <c:catAx>
        <c:axId val="896376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00103"/>
        <c:crosses val="autoZero"/>
        <c:auto val="1"/>
        <c:lblAlgn val="ctr"/>
        <c:lblOffset val="100"/>
        <c:noMultiLvlLbl val="0"/>
      </c:catAx>
      <c:valAx>
        <c:axId val="693001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376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45B5-15E8-463D-AB26-6FA5C7B1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545D-FD9C-4A69-AB1E-F30A953E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6FE6-07B1-4067-A5F5-7C8CB4BF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C33-40CE-4D39-9E58-6A32A0A3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0650-1CCC-43BD-A1B0-94AE2EAC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BC2B-CF3C-4F18-94C6-6298640B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ACE-EAE1-41E4-9BF8-B92EEE90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BF8-8C67-4758-963F-807EDEC1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0D42-6DD4-4B1C-9A91-888ED5FA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BA79-B505-48E3-AF42-D75EFF28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211F-2A3F-4376-B4F4-70B44A4C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D4D-D36E-4ECC-ACB4-6DBB4270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BA7BE-7642-44DC-A606-C3D9B23C06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