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11084"/>
        <c:axId val="79441577"/>
      </c:barChart>
      <c:catAx>
        <c:axId val="12411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41577"/>
        <c:crosses val="autoZero"/>
        <c:auto val="1"/>
        <c:lblAlgn val="ctr"/>
        <c:lblOffset val="100"/>
        <c:noMultiLvlLbl val="0"/>
      </c:catAx>
      <c:valAx>
        <c:axId val="79441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11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3EA-1806-4432-A3BD-52CC1FD6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703-2758-4F9D-8044-8AD7047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122-CDA3-4671-B717-166769F3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50A-E993-42BE-BB81-08A77724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CF4-962E-40A6-B105-88322F0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50A-C085-4D2A-BC0C-4BBC23C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9C3-9150-44EA-BB9E-425D184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BB4-A7B5-40B3-8E24-720AF5D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E97C-B7CE-4913-94C6-E86FD0A9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89E-DB03-49E7-9BF2-358E2EA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364-9D6B-43B7-BCD5-311103BC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410-AB84-45DC-A085-BDC7546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41155-526A-49A8-8657-0212BF1DB1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